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9825-F635-46E6-B43E-225968104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68DC-5F57-4F33-BA15-A82689519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sección 2.4 no entra para el examen: no es una asignatura de programación concurrente, aunque se deben dominar los concep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ECCD-7B34-4250-8DC5-CAEAB9FFD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38F5-6763-400B-8E3D-97BB47779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2ECD-EAF7-4494-B2F5-BAD8462C4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2707-5DAF-4B29-9F71-B7FFFB1B6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0D17-CA78-4238-98EC-C0E2D733D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365C-AE4A-4A74-9D2F-20A4C16F4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sección 2.2.5 solo indica la posibilidad de que existan implementaciones híbridas pero no aclara cómo. La sección 2.2.6 muestra el mecanismo de up-call, que entiendo no es imprescindible para entender los threads, aunque sí para implementarlos. La sección 2.2.7 muestra los threads pop-up que no me parece relevante. La sección 2.2.8 también me parece anecdót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8EB9-6299-4CC4-9294-127C6AA5A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E470-17E5-42F0-831D-72ED7DE6F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07B1-AD6F-4172-BD6A-2FDD71903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9128-2665-45F1-8CD2-B9DAFC84B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B31A-DDF9-4CE9-B3EA-73CE8ACE2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B557-F43B-4446-BB8F-A3EAAA0F4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6888-B00E-4ABB-9B30-229027464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7E89-C59F-46AF-A4AC-27CB68943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8F85-2271-42DE-AB1F-EFF3C51F6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5E14-4CC3-4C87-B334-575586720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82CF-222B-42A1-BBEE-D5F0B1EF4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5D8C-53CD-49F2-BF68-34ADAEC10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tiendo que estos constructores de concurrencia se lo cuentan en la asignatura (LPSI) en la que dan programación concurr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4696-72EC-4B23-808B-465E73A51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A81F-AEF4-4754-9376-55FA81D09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6F0E-5D4A-4D1D-B151-60A815353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9A66-FF23-425B-B08F-1AFBF4D33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reo que podemos eliminar cualquier referencia a Windows y poner los ejemplos solo con Un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FEAC-FD0F-4E2D-B431-3B55E6873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654D-3E3D-4597-9436-249C3F9D8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4607-0379-43FE-9C92-37BF9A211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60C2-757A-43BA-8B43-4EB7DBAC9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4F0C-370D-4DDC-805C-DDB3B646C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BC48-B89F-43D7-8065-32D99C310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1FA5-CF7F-4B03-A61D-2C65DB851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F0B2-EF6F-42C7-84AA-24133CF05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7D32-7E94-4BA9-8675-25FD5390F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3808-4F59-477D-93C6-6E4DBE131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0D6E-1564-4510-B88F-3B193EF8C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EC45-4F33-4C12-A232-D1BCBEB83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154B-3029-4A56-823F-B398DA727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513C-9781-400E-A4A8-B43D38715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860E-1C9D-4991-A887-98DE6FF2E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19A1-FE34-40D6-BBD5-6A82C8978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2FA9-DD18-4B36-9CF6-89CF5FB2B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E9DF-B3F2-485F-9CC5-39B053757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2B8B-F618-41D5-9E40-E010C3977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7CF1-5A1B-401B-884A-786F0C3FF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0FE9-62CF-493E-A352-8B5ACBDBA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85B6-3E2C-4911-86FF-D764033EF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4570-CBA6-4F26-A904-7FAF9E98C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987F-900C-488B-83A9-863707719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825-D68D-4633-A397-71D1D0DA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1928-3FA0-44CA-BE50-5772F19C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EA7-EEA7-41D9-9FA0-21D1BCFD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979-BA1C-41E8-B373-99965636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762-3324-400F-913F-AF6DDA13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4135-7B9C-4270-BCE4-70AC1B53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013-AB66-48CA-B095-97AE7D13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11E-749C-458D-9FF3-C1520A22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3280" y="0"/>
            <a:ext cx="77724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81B-8A54-486F-AE5C-94FE7114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568-2D4E-4B04-8711-0B1149BD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CDC-F74A-4EAA-9142-44FC61AC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5AF-5537-4159-9B24-4EA8F189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59720" y="6489360"/>
            <a:ext cx="4953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C43C-CF46-4B4D-BDF3-25C151DFE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952560"/>
            <a:ext cx="9144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5CFB-9331-4445-AD20-4F7848575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480" y="1612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Procesos y Thread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11280" y="-360"/>
            <a:ext cx="6400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Capítulo 2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643040" y="3165480"/>
            <a:ext cx="424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2 Thread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3 Comunicación entre proces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c0c0"/>
                </a:solidFill>
                <a:latin typeface="Times New Roman"/>
              </a:rPr>
              <a:t>2.4 Problemas IPC clásic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5 Planificación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533600" y="4511520"/>
            <a:ext cx="38005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5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7D63-CF91-43FC-B743-7504257BF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766800" y="1047600"/>
            <a:ext cx="749592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Operaciones sobre thread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rear un thread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s-ES" sz="1800" spc="-1" strike="noStrike">
                <a:solidFill>
                  <a:srgbClr val="ff3300"/>
                </a:solidFill>
                <a:latin typeface="Times New Roman"/>
              </a:rPr>
              <a:t>pthread_create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(pthread_t *identThread, const pthread_att_t *atributos,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oid *(*funcion, void*), void *argumento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pthread_create (&amp;tA, NULL, escribir, &amp;a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iendo: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thread_t tA;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oid *escribir (void *letra) {…}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Esperar a que termine otro thread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s-ES" sz="1800" spc="-1" strike="noStrike">
                <a:solidFill>
                  <a:srgbClr val="ff3300"/>
                </a:solidFill>
                <a:latin typeface="Times New Roman"/>
              </a:rPr>
              <a:t>pthread_join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pthread_t thread, void **estado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pthread_join (tA, NULL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Terminar un threa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mbién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1" lang="es-ES" sz="1800" spc="-1" strike="noStrike">
                <a:solidFill>
                  <a:srgbClr val="ff3300"/>
                </a:solidFill>
                <a:latin typeface="Times New Roman"/>
              </a:rPr>
              <a:t>pthread_exit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(void *estado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3300"/>
                </a:solidFill>
                <a:latin typeface="Times New Roman"/>
              </a:rPr>
              <a:t>pthread_self(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pthread_exit (NULL)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3300"/>
                </a:solidFill>
                <a:latin typeface="Times New Roman"/>
              </a:rPr>
              <a:t>pthread_yield(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reads (2)</a:t>
            </a:r>
            <a:br>
              <a:rPr sz="32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El modelo de thread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1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B782-A69E-4DBD-A425-5D908AEC5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896760" y="1263600"/>
            <a:ext cx="725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blemas con thread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k. ¿El hijo hereda los threads del padre?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: puede no funcionar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: un thread en el padre bloqueado por E/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quién lee? ¿el thread del padre? ¿el del hijo?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los dos?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Los threads comparten estructuras de datos. Si un thread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erra un fichero mientras otros están leyendo ¿qué pasa?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reads (3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El modelo de thread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897840" y="4616280"/>
            <a:ext cx="64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¿Para qué threads si hay procesos?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implifica el modelo de programación.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más rápido crear/destruir threads que procesos.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zones de rendimiento.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8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F8F9-2660-4B75-903D-0F55A8C0D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717480" y="5619600"/>
            <a:ext cx="7772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Un servidor web multithread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reads (4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Uso de thread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92" name="Group 69"/>
          <p:cNvGrpSpPr/>
          <p:nvPr/>
        </p:nvGrpSpPr>
        <p:grpSpPr>
          <a:xfrm>
            <a:off x="857160" y="1187280"/>
            <a:ext cx="6727680" cy="4280760"/>
            <a:chOff x="857160" y="1187280"/>
            <a:chExt cx="6727680" cy="4280760"/>
          </a:xfrm>
        </p:grpSpPr>
        <p:sp>
          <p:nvSpPr>
            <p:cNvPr id="293" name="Freeform 21"/>
            <p:cNvSpPr/>
            <p:nvPr/>
          </p:nvSpPr>
          <p:spPr>
            <a:xfrm>
              <a:off x="4565520" y="2987640"/>
              <a:ext cx="60480" cy="476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94" name="Freeform 22"/>
            <p:cNvSpPr/>
            <p:nvPr/>
          </p:nvSpPr>
          <p:spPr>
            <a:xfrm>
              <a:off x="5029200" y="3013200"/>
              <a:ext cx="60120" cy="476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95" name="Freeform 23"/>
            <p:cNvSpPr/>
            <p:nvPr/>
          </p:nvSpPr>
          <p:spPr>
            <a:xfrm>
              <a:off x="4825800" y="3000240"/>
              <a:ext cx="60480" cy="476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96" name="Text Box 31"/>
            <p:cNvSpPr/>
            <p:nvPr/>
          </p:nvSpPr>
          <p:spPr>
            <a:xfrm>
              <a:off x="4340160" y="4330800"/>
              <a:ext cx="89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5359320" y="3311640"/>
              <a:ext cx="181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Caché de la página web</a:t>
              </a:r>
              <a:endParaRPr b="0" lang="en-US" sz="1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98" name="Oval 33"/>
            <p:cNvSpPr/>
            <p:nvPr/>
          </p:nvSpPr>
          <p:spPr>
            <a:xfrm>
              <a:off x="3797280" y="2254320"/>
              <a:ext cx="1733400" cy="173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grpSp>
          <p:nvGrpSpPr>
            <p:cNvPr id="299" name="Group 52"/>
            <p:cNvGrpSpPr/>
            <p:nvPr/>
          </p:nvGrpSpPr>
          <p:grpSpPr>
            <a:xfrm>
              <a:off x="2076480" y="1962000"/>
              <a:ext cx="5508360" cy="2905200"/>
              <a:chOff x="2076480" y="1962000"/>
              <a:chExt cx="5508360" cy="2905200"/>
            </a:xfrm>
          </p:grpSpPr>
          <p:sp>
            <p:nvSpPr>
              <p:cNvPr id="300" name="Rectangle 37"/>
              <p:cNvSpPr/>
              <p:nvPr/>
            </p:nvSpPr>
            <p:spPr>
              <a:xfrm>
                <a:off x="2076480" y="1962000"/>
                <a:ext cx="5508360" cy="2905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01" name="Line 38"/>
              <p:cNvSpPr/>
              <p:nvPr/>
            </p:nvSpPr>
            <p:spPr>
              <a:xfrm>
                <a:off x="2076480" y="4200480"/>
                <a:ext cx="54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Text Box 39"/>
            <p:cNvSpPr/>
            <p:nvPr/>
          </p:nvSpPr>
          <p:spPr>
            <a:xfrm>
              <a:off x="2530440" y="1959120"/>
              <a:ext cx="170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Thread Dispatcher</a:t>
              </a:r>
              <a:endParaRPr b="0" lang="en-US" sz="1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03" name="Text Box 40"/>
            <p:cNvSpPr/>
            <p:nvPr/>
          </p:nvSpPr>
          <p:spPr>
            <a:xfrm>
              <a:off x="3844800" y="1187280"/>
              <a:ext cx="247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oceso de Servidor Web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04" name="Text Box 41"/>
            <p:cNvSpPr/>
            <p:nvPr/>
          </p:nvSpPr>
          <p:spPr>
            <a:xfrm>
              <a:off x="5635440" y="2568600"/>
              <a:ext cx="184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Thread trabajador</a:t>
              </a:r>
              <a:endParaRPr b="0" lang="en-US" sz="1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05" name="AutoShape 42"/>
            <p:cNvSpPr/>
            <p:nvPr/>
          </p:nvSpPr>
          <p:spPr>
            <a:xfrm>
              <a:off x="1816200" y="2000160"/>
              <a:ext cx="98280" cy="2200320"/>
            </a:xfrm>
            <a:custGeom>
              <a:avLst/>
              <a:gdLst>
                <a:gd name="textAreaLeft" fmla="*/ 63000 w 98280"/>
                <a:gd name="textAreaRight" fmla="*/ 98640 w 98280"/>
                <a:gd name="textAreaTop" fmla="*/ 57240 h 2200320"/>
                <a:gd name="textAreaBottom" fmla="*/ 2143080 h 22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06" name="AutoShape 43"/>
            <p:cNvSpPr/>
            <p:nvPr/>
          </p:nvSpPr>
          <p:spPr>
            <a:xfrm>
              <a:off x="1816200" y="4276800"/>
              <a:ext cx="88920" cy="58104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15120 h 581040"/>
                <a:gd name="textAreaBottom" fmla="*/ 565920 h 58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07" name="Text Box 44"/>
            <p:cNvSpPr/>
            <p:nvPr/>
          </p:nvSpPr>
          <p:spPr>
            <a:xfrm>
              <a:off x="857160" y="2924280"/>
              <a:ext cx="92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Espacio de Usuario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08" name="Text Box 45"/>
            <p:cNvSpPr/>
            <p:nvPr/>
          </p:nvSpPr>
          <p:spPr>
            <a:xfrm>
              <a:off x="885960" y="4152960"/>
              <a:ext cx="91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Espacio del Kernel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09" name="Line 47"/>
            <p:cNvSpPr/>
            <p:nvPr/>
          </p:nvSpPr>
          <p:spPr>
            <a:xfrm>
              <a:off x="4492440" y="1530360"/>
              <a:ext cx="5724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10" name="Line 48"/>
            <p:cNvSpPr/>
            <p:nvPr/>
          </p:nvSpPr>
          <p:spPr>
            <a:xfrm>
              <a:off x="3930480" y="2378160"/>
              <a:ext cx="219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11" name="Line 49"/>
            <p:cNvSpPr/>
            <p:nvPr/>
          </p:nvSpPr>
          <p:spPr>
            <a:xfrm flipH="1">
              <a:off x="5168880" y="357840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12" name="Line 50"/>
            <p:cNvSpPr/>
            <p:nvPr/>
          </p:nvSpPr>
          <p:spPr>
            <a:xfrm flipH="1">
              <a:off x="5111640" y="2787480"/>
              <a:ext cx="4190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13" name="Freeform 53"/>
            <p:cNvSpPr/>
            <p:nvPr/>
          </p:nvSpPr>
          <p:spPr>
            <a:xfrm>
              <a:off x="4195800" y="2631960"/>
              <a:ext cx="46080" cy="362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14" name="Rectangle 54"/>
            <p:cNvSpPr/>
            <p:nvPr/>
          </p:nvSpPr>
          <p:spPr>
            <a:xfrm>
              <a:off x="4410000" y="3448080"/>
              <a:ext cx="752400" cy="218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grpSp>
          <p:nvGrpSpPr>
            <p:cNvPr id="315" name="Group 61"/>
            <p:cNvGrpSpPr/>
            <p:nvPr/>
          </p:nvGrpSpPr>
          <p:grpSpPr>
            <a:xfrm>
              <a:off x="4248000" y="2619360"/>
              <a:ext cx="882360" cy="333360"/>
              <a:chOff x="4248000" y="2619360"/>
              <a:chExt cx="882360" cy="333360"/>
            </a:xfrm>
          </p:grpSpPr>
          <p:sp>
            <p:nvSpPr>
              <p:cNvPr id="316" name="Freeform 55"/>
              <p:cNvSpPr/>
              <p:nvPr/>
            </p:nvSpPr>
            <p:spPr>
              <a:xfrm>
                <a:off x="4248000" y="2619360"/>
                <a:ext cx="882360" cy="266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17" name="Line 56"/>
              <p:cNvSpPr/>
              <p:nvPr/>
            </p:nvSpPr>
            <p:spPr>
              <a:xfrm>
                <a:off x="5098320" y="2771640"/>
                <a:ext cx="0" cy="1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Freeform 59"/>
            <p:cNvSpPr/>
            <p:nvPr/>
          </p:nvSpPr>
          <p:spPr>
            <a:xfrm rot="16200000">
              <a:off x="2528640" y="3635280"/>
              <a:ext cx="2378160" cy="615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19" name="Line 60"/>
            <p:cNvSpPr/>
            <p:nvPr/>
          </p:nvSpPr>
          <p:spPr>
            <a:xfrm>
              <a:off x="4019400" y="284940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grpSp>
          <p:nvGrpSpPr>
            <p:cNvPr id="320" name="Group 62"/>
            <p:cNvGrpSpPr/>
            <p:nvPr/>
          </p:nvGrpSpPr>
          <p:grpSpPr>
            <a:xfrm>
              <a:off x="4282920" y="2720880"/>
              <a:ext cx="606600" cy="218880"/>
              <a:chOff x="4282920" y="2720880"/>
              <a:chExt cx="606600" cy="218880"/>
            </a:xfrm>
          </p:grpSpPr>
          <p:sp>
            <p:nvSpPr>
              <p:cNvPr id="321" name="Freeform 63"/>
              <p:cNvSpPr/>
              <p:nvPr/>
            </p:nvSpPr>
            <p:spPr>
              <a:xfrm>
                <a:off x="4282920" y="2720880"/>
                <a:ext cx="606600" cy="174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22" name="Line 64"/>
              <p:cNvSpPr/>
              <p:nvPr/>
            </p:nvSpPr>
            <p:spPr>
              <a:xfrm>
                <a:off x="4867200" y="2820960"/>
                <a:ext cx="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65"/>
            <p:cNvGrpSpPr/>
            <p:nvPr/>
          </p:nvGrpSpPr>
          <p:grpSpPr>
            <a:xfrm>
              <a:off x="4289400" y="2841480"/>
              <a:ext cx="301680" cy="133200"/>
              <a:chOff x="4289400" y="2841480"/>
              <a:chExt cx="301680" cy="133200"/>
            </a:xfrm>
          </p:grpSpPr>
          <p:sp>
            <p:nvSpPr>
              <p:cNvPr id="324" name="Freeform 66"/>
              <p:cNvSpPr/>
              <p:nvPr/>
            </p:nvSpPr>
            <p:spPr>
              <a:xfrm>
                <a:off x="4289400" y="2841480"/>
                <a:ext cx="301680" cy="106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25" name="Line 67"/>
              <p:cNvSpPr/>
              <p:nvPr/>
            </p:nvSpPr>
            <p:spPr>
              <a:xfrm>
                <a:off x="4580280" y="2902320"/>
                <a:ext cx="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Text Box 68"/>
            <p:cNvSpPr/>
            <p:nvPr/>
          </p:nvSpPr>
          <p:spPr>
            <a:xfrm>
              <a:off x="2359080" y="5130720"/>
              <a:ext cx="24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onexión de red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9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680B-AB7F-4DF4-B399-CC5F2EC55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reads (5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Uso de thread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685800" y="4552920"/>
            <a:ext cx="77724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ispatcher (a)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orker (b)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5396040" y="495468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imes New Roman"/>
              </a:rPr>
              <a:t>¿Cómo sin threads?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781200" y="1971720"/>
            <a:ext cx="39909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while (TRUE){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obtener_siguiente_petición(&amp;buf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ntrega_trabajo(&amp;buf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334040" y="1959120"/>
            <a:ext cx="40957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while (TRUE){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perar_trabajo(&amp;buf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buscar_página_en_cache(&amp;buf, &amp;page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if (página_no_encontrada_en_cache(&amp;page)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eer_página_de_disco(&amp;buf, &amp;page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devolver_página(&amp;page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1438200" y="37339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5311800" y="371160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0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7B48-9776-44B5-AA14-C7DEC7BF6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97000" y="0"/>
            <a:ext cx="86342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reads (6)</a:t>
            </a:r>
            <a:br>
              <a:rPr sz="32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mplementación de threads en espacio de kernel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343" name="Group 82"/>
          <p:cNvGrpSpPr/>
          <p:nvPr/>
        </p:nvGrpSpPr>
        <p:grpSpPr>
          <a:xfrm>
            <a:off x="1762200" y="1596960"/>
            <a:ext cx="5716440" cy="4356720"/>
            <a:chOff x="1762200" y="1596960"/>
            <a:chExt cx="5716440" cy="4356720"/>
          </a:xfrm>
        </p:grpSpPr>
        <p:sp>
          <p:nvSpPr>
            <p:cNvPr id="344" name="Text Box 35"/>
            <p:cNvSpPr/>
            <p:nvPr/>
          </p:nvSpPr>
          <p:spPr>
            <a:xfrm>
              <a:off x="3664080" y="4397400"/>
              <a:ext cx="89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45" name="Text Box 36"/>
            <p:cNvSpPr/>
            <p:nvPr/>
          </p:nvSpPr>
          <p:spPr>
            <a:xfrm>
              <a:off x="5616720" y="5249880"/>
              <a:ext cx="1861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abla de threads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46" name="Rectangle 41"/>
            <p:cNvSpPr/>
            <p:nvPr/>
          </p:nvSpPr>
          <p:spPr>
            <a:xfrm>
              <a:off x="3133800" y="2352600"/>
              <a:ext cx="3314520" cy="262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47" name="Line 42"/>
            <p:cNvSpPr/>
            <p:nvPr/>
          </p:nvSpPr>
          <p:spPr>
            <a:xfrm>
              <a:off x="3133800" y="4302000"/>
              <a:ext cx="33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48" name="Text Box 43"/>
            <p:cNvSpPr/>
            <p:nvPr/>
          </p:nvSpPr>
          <p:spPr>
            <a:xfrm>
              <a:off x="3092400" y="1596960"/>
              <a:ext cx="10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oceso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49" name="Text Box 44"/>
            <p:cNvSpPr/>
            <p:nvPr/>
          </p:nvSpPr>
          <p:spPr>
            <a:xfrm>
              <a:off x="4245120" y="1654200"/>
              <a:ext cx="12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hread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0" name="AutoShape 46"/>
            <p:cNvSpPr/>
            <p:nvPr/>
          </p:nvSpPr>
          <p:spPr>
            <a:xfrm>
              <a:off x="2844720" y="2352600"/>
              <a:ext cx="88920" cy="185760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48240 h 1857600"/>
                <a:gd name="textAreaBottom" fmla="*/ 180936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1" name="AutoShape 47"/>
            <p:cNvSpPr/>
            <p:nvPr/>
          </p:nvSpPr>
          <p:spPr>
            <a:xfrm>
              <a:off x="2825640" y="4305240"/>
              <a:ext cx="88920" cy="58104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15120 h 581040"/>
                <a:gd name="textAreaBottom" fmla="*/ 565920 h 58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2" name="Text Box 48"/>
            <p:cNvSpPr/>
            <p:nvPr/>
          </p:nvSpPr>
          <p:spPr>
            <a:xfrm>
              <a:off x="1886040" y="2933640"/>
              <a:ext cx="923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Espacio de Usuario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3" name="Text Box 49"/>
            <p:cNvSpPr/>
            <p:nvPr/>
          </p:nvSpPr>
          <p:spPr>
            <a:xfrm>
              <a:off x="1762200" y="4238640"/>
              <a:ext cx="99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Espacio del Kernel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4" name="Line 50"/>
            <p:cNvSpPr/>
            <p:nvPr/>
          </p:nvSpPr>
          <p:spPr>
            <a:xfrm>
              <a:off x="3666960" y="1981080"/>
              <a:ext cx="21924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5" name="Line 51"/>
            <p:cNvSpPr/>
            <p:nvPr/>
          </p:nvSpPr>
          <p:spPr>
            <a:xfrm flipH="1">
              <a:off x="4311720" y="1940040"/>
              <a:ext cx="466560" cy="11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6" name="Line 53"/>
            <p:cNvSpPr/>
            <p:nvPr/>
          </p:nvSpPr>
          <p:spPr>
            <a:xfrm flipV="1">
              <a:off x="4483080" y="4759200"/>
              <a:ext cx="714240" cy="5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7" name="Line 54"/>
            <p:cNvSpPr/>
            <p:nvPr/>
          </p:nvSpPr>
          <p:spPr>
            <a:xfrm flipH="1" flipV="1">
              <a:off x="5902200" y="4807080"/>
              <a:ext cx="547920" cy="4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8" name="Oval 56"/>
            <p:cNvSpPr/>
            <p:nvPr/>
          </p:nvSpPr>
          <p:spPr>
            <a:xfrm>
              <a:off x="3216240" y="2644920"/>
              <a:ext cx="1467000" cy="146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9" name="Freeform 57"/>
            <p:cNvSpPr/>
            <p:nvPr/>
          </p:nvSpPr>
          <p:spPr>
            <a:xfrm>
              <a:off x="3660840" y="2930400"/>
              <a:ext cx="109440" cy="860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60" name="Freeform 58"/>
            <p:cNvSpPr/>
            <p:nvPr/>
          </p:nvSpPr>
          <p:spPr>
            <a:xfrm>
              <a:off x="3905280" y="2965320"/>
              <a:ext cx="109440" cy="860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61" name="Freeform 59"/>
            <p:cNvSpPr/>
            <p:nvPr/>
          </p:nvSpPr>
          <p:spPr>
            <a:xfrm>
              <a:off x="4140360" y="2952720"/>
              <a:ext cx="109440" cy="860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grpSp>
          <p:nvGrpSpPr>
            <p:cNvPr id="362" name="Group 64"/>
            <p:cNvGrpSpPr/>
            <p:nvPr/>
          </p:nvGrpSpPr>
          <p:grpSpPr>
            <a:xfrm>
              <a:off x="5133960" y="2908440"/>
              <a:ext cx="909360" cy="895320"/>
              <a:chOff x="5133960" y="2908440"/>
              <a:chExt cx="909360" cy="895320"/>
            </a:xfrm>
          </p:grpSpPr>
          <p:sp>
            <p:nvSpPr>
              <p:cNvPr id="363" name="Freeform 60"/>
              <p:cNvSpPr/>
              <p:nvPr/>
            </p:nvSpPr>
            <p:spPr>
              <a:xfrm>
                <a:off x="5133960" y="2908440"/>
                <a:ext cx="109440" cy="8604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64" name="Freeform 61"/>
              <p:cNvSpPr/>
              <p:nvPr/>
            </p:nvSpPr>
            <p:spPr>
              <a:xfrm>
                <a:off x="5378400" y="2943360"/>
                <a:ext cx="109440" cy="8604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65" name="Freeform 62"/>
              <p:cNvSpPr/>
              <p:nvPr/>
            </p:nvSpPr>
            <p:spPr>
              <a:xfrm>
                <a:off x="5613120" y="2930400"/>
                <a:ext cx="109800" cy="8604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66" name="Freeform 63"/>
              <p:cNvSpPr/>
              <p:nvPr/>
            </p:nvSpPr>
            <p:spPr>
              <a:xfrm>
                <a:off x="5933880" y="2936880"/>
                <a:ext cx="109440" cy="8604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Oval 65"/>
            <p:cNvSpPr/>
            <p:nvPr/>
          </p:nvSpPr>
          <p:spPr>
            <a:xfrm>
              <a:off x="4842000" y="2631960"/>
              <a:ext cx="1466640" cy="1467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grpSp>
          <p:nvGrpSpPr>
            <p:cNvPr id="368" name="Group 79"/>
            <p:cNvGrpSpPr/>
            <p:nvPr/>
          </p:nvGrpSpPr>
          <p:grpSpPr>
            <a:xfrm>
              <a:off x="5076720" y="4448160"/>
              <a:ext cx="438120" cy="266760"/>
              <a:chOff x="5076720" y="4448160"/>
              <a:chExt cx="438120" cy="266760"/>
            </a:xfrm>
          </p:grpSpPr>
          <p:sp>
            <p:nvSpPr>
              <p:cNvPr id="369" name="Rectangle 66"/>
              <p:cNvSpPr/>
              <p:nvPr/>
            </p:nvSpPr>
            <p:spPr>
              <a:xfrm>
                <a:off x="5076720" y="4448160"/>
                <a:ext cx="438120" cy="26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70" name="Line 67"/>
              <p:cNvSpPr/>
              <p:nvPr/>
            </p:nvSpPr>
            <p:spPr>
              <a:xfrm>
                <a:off x="5076720" y="4572000"/>
                <a:ext cx="43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78"/>
            <p:cNvGrpSpPr/>
            <p:nvPr/>
          </p:nvGrpSpPr>
          <p:grpSpPr>
            <a:xfrm>
              <a:off x="5778360" y="4381560"/>
              <a:ext cx="223920" cy="399960"/>
              <a:chOff x="5778360" y="4381560"/>
              <a:chExt cx="223920" cy="399960"/>
            </a:xfrm>
          </p:grpSpPr>
          <p:sp>
            <p:nvSpPr>
              <p:cNvPr id="372" name="Rectangle 68"/>
              <p:cNvSpPr/>
              <p:nvPr/>
            </p:nvSpPr>
            <p:spPr>
              <a:xfrm>
                <a:off x="5781600" y="4381560"/>
                <a:ext cx="219240" cy="399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73" name="Line 69"/>
              <p:cNvSpPr/>
              <p:nvPr/>
            </p:nvSpPr>
            <p:spPr>
              <a:xfrm>
                <a:off x="5781600" y="4429080"/>
                <a:ext cx="21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74" name="Line 70"/>
              <p:cNvSpPr/>
              <p:nvPr/>
            </p:nvSpPr>
            <p:spPr>
              <a:xfrm>
                <a:off x="5783400" y="44737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75" name="Line 71"/>
              <p:cNvSpPr/>
              <p:nvPr/>
            </p:nvSpPr>
            <p:spPr>
              <a:xfrm>
                <a:off x="5788080" y="45165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76" name="Line 72"/>
              <p:cNvSpPr/>
              <p:nvPr/>
            </p:nvSpPr>
            <p:spPr>
              <a:xfrm>
                <a:off x="5788080" y="455940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77" name="Line 73"/>
              <p:cNvSpPr/>
              <p:nvPr/>
            </p:nvSpPr>
            <p:spPr>
              <a:xfrm>
                <a:off x="5778360" y="4597560"/>
                <a:ext cx="21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78" name="Line 74"/>
              <p:cNvSpPr/>
              <p:nvPr/>
            </p:nvSpPr>
            <p:spPr>
              <a:xfrm>
                <a:off x="5778360" y="4640400"/>
                <a:ext cx="21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79" name="Line 75"/>
              <p:cNvSpPr/>
              <p:nvPr/>
            </p:nvSpPr>
            <p:spPr>
              <a:xfrm>
                <a:off x="5783400" y="467352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80" name="Line 76"/>
              <p:cNvSpPr/>
              <p:nvPr/>
            </p:nvSpPr>
            <p:spPr>
              <a:xfrm>
                <a:off x="5783400" y="471168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381" name="Line 77"/>
              <p:cNvSpPr/>
              <p:nvPr/>
            </p:nvSpPr>
            <p:spPr>
              <a:xfrm>
                <a:off x="5788080" y="47451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Text Box 80"/>
            <p:cNvSpPr/>
            <p:nvPr/>
          </p:nvSpPr>
          <p:spPr>
            <a:xfrm>
              <a:off x="3322800" y="5265720"/>
              <a:ext cx="21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abla de procesos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5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3F8D-74EF-4EA9-A0FD-6333738FC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97000" y="0"/>
            <a:ext cx="86342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reads (7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mplementación de threads en espacio de kernel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617040" y="1733400"/>
            <a:ext cx="826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Ventaj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El bloqueo de un thread no bloquea todos los threads del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 que lo contiene.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Desventaj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La creación/destrucción de threads es más cara en el kernel que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spacio de usuario (reciclar threads).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El cambio de contexto de threads también es más caro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1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5DEC-5F78-441E-B49A-94B88FB57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393" name="Group 67"/>
          <p:cNvGrpSpPr/>
          <p:nvPr/>
        </p:nvGrpSpPr>
        <p:grpSpPr>
          <a:xfrm>
            <a:off x="522360" y="4583160"/>
            <a:ext cx="2090520" cy="1452600"/>
            <a:chOff x="522360" y="4583160"/>
            <a:chExt cx="2090520" cy="1452600"/>
          </a:xfrm>
        </p:grpSpPr>
        <p:sp>
          <p:nvSpPr>
            <p:cNvPr id="394" name="Rectangle 5"/>
            <p:cNvSpPr/>
            <p:nvPr/>
          </p:nvSpPr>
          <p:spPr>
            <a:xfrm>
              <a:off x="581040" y="4657680"/>
              <a:ext cx="20318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3300"/>
                  </a:solidFill>
                  <a:latin typeface="Times New Roman"/>
                </a:rPr>
                <a:t>pthread_create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3300"/>
                  </a:solidFill>
                  <a:latin typeface="Times New Roman"/>
                </a:rPr>
                <a:t>pthread_join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3300"/>
                  </a:solidFill>
                  <a:latin typeface="Times New Roman"/>
                </a:rPr>
                <a:t>pthread_exit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3300"/>
                  </a:solidFill>
                  <a:latin typeface="Times New Roman"/>
                </a:rPr>
                <a:t>pthread_self</a:t>
              </a:r>
              <a:r>
                <a:rPr b="0" lang="es-ES" sz="16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3300"/>
                  </a:solidFill>
                  <a:latin typeface="Times New Roman"/>
                </a:rPr>
                <a:t>pthread_yield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95" name="AutoShape 6"/>
            <p:cNvSpPr/>
            <p:nvPr/>
          </p:nvSpPr>
          <p:spPr>
            <a:xfrm>
              <a:off x="522360" y="4583160"/>
              <a:ext cx="1869840" cy="1452600"/>
            </a:xfrm>
            <a:prstGeom prst="wedgeRectCallout">
              <a:avLst>
                <a:gd name="adj1" fmla="val 85060"/>
                <a:gd name="adj2" fmla="val 1950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44520" y="0"/>
            <a:ext cx="86342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reads (8)</a:t>
            </a:r>
            <a:br>
              <a:rPr sz="32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mplementación de threads en espacio de usuario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3635280" y="389268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3835440" y="4840200"/>
            <a:ext cx="186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abla de threads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3105000" y="1847880"/>
            <a:ext cx="331488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0" name="Line 13"/>
          <p:cNvSpPr/>
          <p:nvPr/>
        </p:nvSpPr>
        <p:spPr>
          <a:xfrm>
            <a:off x="3105000" y="3797280"/>
            <a:ext cx="331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3063960" y="109224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4216320" y="11494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3" name="AutoShape 16"/>
          <p:cNvSpPr/>
          <p:nvPr/>
        </p:nvSpPr>
        <p:spPr>
          <a:xfrm>
            <a:off x="2816280" y="1847880"/>
            <a:ext cx="88920" cy="1857240"/>
          </a:xfrm>
          <a:custGeom>
            <a:avLst/>
            <a:gdLst>
              <a:gd name="textAreaLeft" fmla="*/ 56880 w 88920"/>
              <a:gd name="textAreaRight" fmla="*/ 89280 w 88920"/>
              <a:gd name="textAreaTop" fmla="*/ 48240 h 1857240"/>
              <a:gd name="textAreaBottom" fmla="*/ 1809000 h 18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4" name="AutoShape 17"/>
          <p:cNvSpPr/>
          <p:nvPr/>
        </p:nvSpPr>
        <p:spPr>
          <a:xfrm>
            <a:off x="2797200" y="3800520"/>
            <a:ext cx="88920" cy="581040"/>
          </a:xfrm>
          <a:custGeom>
            <a:avLst/>
            <a:gdLst>
              <a:gd name="textAreaLeft" fmla="*/ 56880 w 88920"/>
              <a:gd name="textAreaRight" fmla="*/ 89280 w 88920"/>
              <a:gd name="textAreaTop" fmla="*/ 15120 h 581040"/>
              <a:gd name="textAreaBottom" fmla="*/ 565920 h 58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5" name="Text Box 18"/>
          <p:cNvSpPr/>
          <p:nvPr/>
        </p:nvSpPr>
        <p:spPr>
          <a:xfrm>
            <a:off x="1857240" y="2428920"/>
            <a:ext cx="92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pacio de Usuario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6" name="Text Box 19"/>
          <p:cNvSpPr/>
          <p:nvPr/>
        </p:nvSpPr>
        <p:spPr>
          <a:xfrm>
            <a:off x="1809720" y="367668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pacio del Kernel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7" name="Line 20"/>
          <p:cNvSpPr/>
          <p:nvPr/>
        </p:nvSpPr>
        <p:spPr>
          <a:xfrm>
            <a:off x="3638520" y="1476360"/>
            <a:ext cx="21924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8" name="Line 21"/>
          <p:cNvSpPr/>
          <p:nvPr/>
        </p:nvSpPr>
        <p:spPr>
          <a:xfrm flipH="1">
            <a:off x="4282560" y="1434960"/>
            <a:ext cx="466920" cy="110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9" name="Line 22"/>
          <p:cNvSpPr/>
          <p:nvPr/>
        </p:nvSpPr>
        <p:spPr>
          <a:xfrm flipH="1" flipV="1">
            <a:off x="4301640" y="3282480"/>
            <a:ext cx="295560" cy="15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0" name="Line 23"/>
          <p:cNvSpPr/>
          <p:nvPr/>
        </p:nvSpPr>
        <p:spPr>
          <a:xfrm flipH="1" flipV="1">
            <a:off x="5997240" y="4282920"/>
            <a:ext cx="42372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1" name="Oval 24"/>
          <p:cNvSpPr/>
          <p:nvPr/>
        </p:nvSpPr>
        <p:spPr>
          <a:xfrm>
            <a:off x="3187800" y="2139840"/>
            <a:ext cx="1466640" cy="146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12" name="Group 49"/>
          <p:cNvGrpSpPr/>
          <p:nvPr/>
        </p:nvGrpSpPr>
        <p:grpSpPr>
          <a:xfrm>
            <a:off x="3632040" y="2425680"/>
            <a:ext cx="588960" cy="628560"/>
            <a:chOff x="3632040" y="2425680"/>
            <a:chExt cx="588960" cy="628560"/>
          </a:xfrm>
        </p:grpSpPr>
        <p:sp>
          <p:nvSpPr>
            <p:cNvPr id="413" name="Freeform 25"/>
            <p:cNvSpPr/>
            <p:nvPr/>
          </p:nvSpPr>
          <p:spPr>
            <a:xfrm>
              <a:off x="3632040" y="2425680"/>
              <a:ext cx="109440" cy="604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14" name="Freeform 26"/>
            <p:cNvSpPr/>
            <p:nvPr/>
          </p:nvSpPr>
          <p:spPr>
            <a:xfrm>
              <a:off x="3876480" y="2450160"/>
              <a:ext cx="109440" cy="604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15" name="Freeform 27"/>
            <p:cNvSpPr/>
            <p:nvPr/>
          </p:nvSpPr>
          <p:spPr>
            <a:xfrm>
              <a:off x="4111560" y="2441160"/>
              <a:ext cx="109440" cy="6040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416" name="Group 28"/>
          <p:cNvGrpSpPr/>
          <p:nvPr/>
        </p:nvGrpSpPr>
        <p:grpSpPr>
          <a:xfrm>
            <a:off x="5105520" y="2403360"/>
            <a:ext cx="909360" cy="638280"/>
            <a:chOff x="5105520" y="2403360"/>
            <a:chExt cx="909360" cy="638280"/>
          </a:xfrm>
        </p:grpSpPr>
        <p:sp>
          <p:nvSpPr>
            <p:cNvPr id="417" name="Freeform 29"/>
            <p:cNvSpPr/>
            <p:nvPr/>
          </p:nvSpPr>
          <p:spPr>
            <a:xfrm>
              <a:off x="5105520" y="2403360"/>
              <a:ext cx="109440" cy="613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18" name="Freeform 30"/>
            <p:cNvSpPr/>
            <p:nvPr/>
          </p:nvSpPr>
          <p:spPr>
            <a:xfrm>
              <a:off x="5349960" y="2428200"/>
              <a:ext cx="109440" cy="613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19" name="Freeform 31"/>
            <p:cNvSpPr/>
            <p:nvPr/>
          </p:nvSpPr>
          <p:spPr>
            <a:xfrm>
              <a:off x="5584680" y="2418840"/>
              <a:ext cx="109800" cy="613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20" name="Freeform 32"/>
            <p:cNvSpPr/>
            <p:nvPr/>
          </p:nvSpPr>
          <p:spPr>
            <a:xfrm>
              <a:off x="5905440" y="2423520"/>
              <a:ext cx="109440" cy="613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21" name="Oval 33"/>
          <p:cNvSpPr/>
          <p:nvPr/>
        </p:nvSpPr>
        <p:spPr>
          <a:xfrm>
            <a:off x="4813200" y="2127240"/>
            <a:ext cx="1467000" cy="146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22" name="Group 34"/>
          <p:cNvGrpSpPr/>
          <p:nvPr/>
        </p:nvGrpSpPr>
        <p:grpSpPr>
          <a:xfrm>
            <a:off x="5810400" y="3943440"/>
            <a:ext cx="438120" cy="266760"/>
            <a:chOff x="5810400" y="3943440"/>
            <a:chExt cx="438120" cy="266760"/>
          </a:xfrm>
        </p:grpSpPr>
        <p:sp>
          <p:nvSpPr>
            <p:cNvPr id="423" name="Rectangle 35"/>
            <p:cNvSpPr/>
            <p:nvPr/>
          </p:nvSpPr>
          <p:spPr>
            <a:xfrm>
              <a:off x="5810400" y="3943440"/>
              <a:ext cx="438120" cy="26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24" name="Line 36"/>
            <p:cNvSpPr/>
            <p:nvPr/>
          </p:nvSpPr>
          <p:spPr>
            <a:xfrm>
              <a:off x="5810400" y="406728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25" name="Text Box 48"/>
          <p:cNvSpPr/>
          <p:nvPr/>
        </p:nvSpPr>
        <p:spPr>
          <a:xfrm>
            <a:off x="5818320" y="478944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abla de procesos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26" name="Group 69"/>
          <p:cNvGrpSpPr/>
          <p:nvPr/>
        </p:nvGrpSpPr>
        <p:grpSpPr>
          <a:xfrm>
            <a:off x="3381480" y="3114720"/>
            <a:ext cx="1066680" cy="228600"/>
            <a:chOff x="3381480" y="3114720"/>
            <a:chExt cx="1066680" cy="228600"/>
          </a:xfrm>
        </p:grpSpPr>
        <p:sp>
          <p:nvSpPr>
            <p:cNvPr id="427" name="Rectangle 50"/>
            <p:cNvSpPr/>
            <p:nvPr/>
          </p:nvSpPr>
          <p:spPr>
            <a:xfrm>
              <a:off x="3381480" y="3114720"/>
              <a:ext cx="10666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grpSp>
          <p:nvGrpSpPr>
            <p:cNvPr id="428" name="Group 55"/>
            <p:cNvGrpSpPr/>
            <p:nvPr/>
          </p:nvGrpSpPr>
          <p:grpSpPr>
            <a:xfrm>
              <a:off x="4149720" y="3149640"/>
              <a:ext cx="252360" cy="154080"/>
              <a:chOff x="4149720" y="3149640"/>
              <a:chExt cx="252360" cy="154080"/>
            </a:xfrm>
          </p:grpSpPr>
          <p:sp>
            <p:nvSpPr>
              <p:cNvPr id="429" name="Rectangle 52"/>
              <p:cNvSpPr/>
              <p:nvPr/>
            </p:nvSpPr>
            <p:spPr>
              <a:xfrm>
                <a:off x="4149720" y="3149640"/>
                <a:ext cx="252360" cy="154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430" name="Line 53"/>
              <p:cNvSpPr/>
              <p:nvPr/>
            </p:nvSpPr>
            <p:spPr>
              <a:xfrm>
                <a:off x="4151160" y="3190680"/>
                <a:ext cx="24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431" name="Line 54"/>
              <p:cNvSpPr/>
              <p:nvPr/>
            </p:nvSpPr>
            <p:spPr>
              <a:xfrm>
                <a:off x="4151880" y="3241800"/>
                <a:ext cx="24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Rectangle 56"/>
          <p:cNvSpPr/>
          <p:nvPr/>
        </p:nvSpPr>
        <p:spPr>
          <a:xfrm>
            <a:off x="5016600" y="30924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33" name="Group 62"/>
          <p:cNvGrpSpPr/>
          <p:nvPr/>
        </p:nvGrpSpPr>
        <p:grpSpPr>
          <a:xfrm>
            <a:off x="5803920" y="3117960"/>
            <a:ext cx="241200" cy="164880"/>
            <a:chOff x="5803920" y="3117960"/>
            <a:chExt cx="241200" cy="164880"/>
          </a:xfrm>
        </p:grpSpPr>
        <p:sp>
          <p:nvSpPr>
            <p:cNvPr id="434" name="Rectangle 58"/>
            <p:cNvSpPr/>
            <p:nvPr/>
          </p:nvSpPr>
          <p:spPr>
            <a:xfrm>
              <a:off x="5803920" y="3117960"/>
              <a:ext cx="241200" cy="16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35" name="Line 59"/>
            <p:cNvSpPr/>
            <p:nvPr/>
          </p:nvSpPr>
          <p:spPr>
            <a:xfrm>
              <a:off x="5805000" y="3151800"/>
              <a:ext cx="2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36" name="Line 60"/>
            <p:cNvSpPr/>
            <p:nvPr/>
          </p:nvSpPr>
          <p:spPr>
            <a:xfrm>
              <a:off x="5805000" y="3187800"/>
              <a:ext cx="2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37" name="Line 61"/>
            <p:cNvSpPr/>
            <p:nvPr/>
          </p:nvSpPr>
          <p:spPr>
            <a:xfrm>
              <a:off x="5804640" y="3232440"/>
              <a:ext cx="2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38" name="Text Box 63"/>
          <p:cNvSpPr/>
          <p:nvPr/>
        </p:nvSpPr>
        <p:spPr>
          <a:xfrm>
            <a:off x="3009960" y="5362560"/>
            <a:ext cx="20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un-time system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9" name="Line 64"/>
          <p:cNvSpPr/>
          <p:nvPr/>
        </p:nvSpPr>
        <p:spPr>
          <a:xfrm flipH="1" flipV="1">
            <a:off x="3546000" y="3336480"/>
            <a:ext cx="26676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2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207E-88D5-4900-A6C6-B9D9269C7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97000" y="0"/>
            <a:ext cx="86342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reads (9)</a:t>
            </a:r>
            <a:br>
              <a:rPr sz="32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mplementación de threads en espacio de usuario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580320" y="1390680"/>
            <a:ext cx="8177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Ventaj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Se puede tener threads en sistemas operativos que no l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portan.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El switching es mucho más rápido que si hay que comunicarlo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kernel.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Cada proceso puede tener su propio algoritmo de planificación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hreads.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Desventaj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¿Cómo se implementan las llamadas al sistema bloqueantes?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Un thread provoca una falta de página: bloquea al proceso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los threads tienden a monopolizar la CPU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4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7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8" name="6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872C-C245-4DA2-ACAC-2393FAB9F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Comunicación entr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835920" y="1806480"/>
            <a:ext cx="660888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procesos necesitan comunicarse y sincronizarse.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resentan tres problemas: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ómo pasar información de un proceso a otro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hreads (espacio compartido)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s (espacio no compartido)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clusión mutua sobre regiones crítica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uenciamie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cuando existen dependencia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4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1CB4-A7C8-48DD-8C66-3313DFAD7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882360" y="1311120"/>
            <a:ext cx="7742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Mecanismo: Inhibir interrupcion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rar: inhibir; salir: permitir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ntro de la RC, un proceso no pide E/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O: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eden perderse interrupcion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impide que otros procesos ajenos puedan continuar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vale si hay más de una CPU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peligroso darle al usuario la facultad de inhibir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terrupcion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ntro del kernel, sí se inhiben interrupcion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Comunicación entr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2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Exclusión mutua con espera activa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DABA-ABA7-4613-A53B-4864F04B7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1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El Modelo de Proceso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6880" y="5143680"/>
            <a:ext cx="77342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Multiprogramación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de 4 programa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Modelo conceptual de 4 procesos secuenciales independiente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Solo un proceso activo en cada instante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1" name="Group 28"/>
          <p:cNvGrpSpPr/>
          <p:nvPr/>
        </p:nvGrpSpPr>
        <p:grpSpPr>
          <a:xfrm>
            <a:off x="6184800" y="2438280"/>
            <a:ext cx="978120" cy="927360"/>
            <a:chOff x="6184800" y="2438280"/>
            <a:chExt cx="978120" cy="927360"/>
          </a:xfrm>
        </p:grpSpPr>
        <p:sp>
          <p:nvSpPr>
            <p:cNvPr id="62" name="Line 24"/>
            <p:cNvSpPr/>
            <p:nvPr/>
          </p:nvSpPr>
          <p:spPr>
            <a:xfrm>
              <a:off x="6184800" y="3365640"/>
              <a:ext cx="216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3" name="Line 25"/>
            <p:cNvSpPr/>
            <p:nvPr/>
          </p:nvSpPr>
          <p:spPr>
            <a:xfrm>
              <a:off x="6438960" y="3073320"/>
              <a:ext cx="228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4" name="Line 26"/>
            <p:cNvSpPr/>
            <p:nvPr/>
          </p:nvSpPr>
          <p:spPr>
            <a:xfrm>
              <a:off x="6692760" y="2755800"/>
              <a:ext cx="228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5" name="Line 27"/>
            <p:cNvSpPr/>
            <p:nvPr/>
          </p:nvSpPr>
          <p:spPr>
            <a:xfrm>
              <a:off x="6934320" y="2438280"/>
              <a:ext cx="228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66" name="Group 29"/>
          <p:cNvGrpSpPr/>
          <p:nvPr/>
        </p:nvGrpSpPr>
        <p:grpSpPr>
          <a:xfrm>
            <a:off x="6400800" y="2654280"/>
            <a:ext cx="977400" cy="927000"/>
            <a:chOff x="6400800" y="2654280"/>
            <a:chExt cx="977400" cy="927000"/>
          </a:xfrm>
        </p:grpSpPr>
        <p:sp>
          <p:nvSpPr>
            <p:cNvPr id="67" name="Line 30"/>
            <p:cNvSpPr/>
            <p:nvPr/>
          </p:nvSpPr>
          <p:spPr>
            <a:xfrm>
              <a:off x="6400800" y="3581280"/>
              <a:ext cx="215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8" name="Line 31"/>
            <p:cNvSpPr/>
            <p:nvPr/>
          </p:nvSpPr>
          <p:spPr>
            <a:xfrm>
              <a:off x="6654600" y="3288960"/>
              <a:ext cx="228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9" name="Line 32"/>
            <p:cNvSpPr/>
            <p:nvPr/>
          </p:nvSpPr>
          <p:spPr>
            <a:xfrm>
              <a:off x="6908400" y="2971440"/>
              <a:ext cx="228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0" name="Line 33"/>
            <p:cNvSpPr/>
            <p:nvPr/>
          </p:nvSpPr>
          <p:spPr>
            <a:xfrm>
              <a:off x="7149960" y="2654280"/>
              <a:ext cx="228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71" name="Group 75"/>
          <p:cNvGrpSpPr/>
          <p:nvPr/>
        </p:nvGrpSpPr>
        <p:grpSpPr>
          <a:xfrm>
            <a:off x="298080" y="1573200"/>
            <a:ext cx="8185680" cy="3029040"/>
            <a:chOff x="298080" y="1573200"/>
            <a:chExt cx="8185680" cy="3029040"/>
          </a:xfrm>
        </p:grpSpPr>
        <p:sp>
          <p:nvSpPr>
            <p:cNvPr id="72" name="Rectangle 5"/>
            <p:cNvSpPr/>
            <p:nvPr/>
          </p:nvSpPr>
          <p:spPr>
            <a:xfrm>
              <a:off x="2451240" y="3530520"/>
              <a:ext cx="571320" cy="68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3301920" y="3530520"/>
              <a:ext cx="406440" cy="418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4000680" y="3517560"/>
              <a:ext cx="5205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5" name="Rectangle 8"/>
            <p:cNvSpPr/>
            <p:nvPr/>
          </p:nvSpPr>
          <p:spPr>
            <a:xfrm>
              <a:off x="4800600" y="3504960"/>
              <a:ext cx="4446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2882880" y="3682800"/>
              <a:ext cx="0" cy="380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3606840" y="3606480"/>
              <a:ext cx="0" cy="2412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4356000" y="3593880"/>
              <a:ext cx="0" cy="380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5130720" y="3606480"/>
              <a:ext cx="0" cy="253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 flipH="1">
              <a:off x="2717640" y="2806560"/>
              <a:ext cx="1143000" cy="71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 flipH="1">
              <a:off x="3492360" y="2793960"/>
              <a:ext cx="393840" cy="72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>
              <a:off x="3886200" y="2793960"/>
              <a:ext cx="393840" cy="71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3" name="Line 16"/>
            <p:cNvSpPr/>
            <p:nvPr/>
          </p:nvSpPr>
          <p:spPr>
            <a:xfrm>
              <a:off x="3886200" y="2806560"/>
              <a:ext cx="1130400" cy="69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4" name="Text Box 17"/>
            <p:cNvSpPr/>
            <p:nvPr/>
          </p:nvSpPr>
          <p:spPr>
            <a:xfrm>
              <a:off x="2476440" y="1981080"/>
              <a:ext cx="293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uatro contadores de programa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grpSp>
          <p:nvGrpSpPr>
            <p:cNvPr id="85" name="Group 34"/>
            <p:cNvGrpSpPr/>
            <p:nvPr/>
          </p:nvGrpSpPr>
          <p:grpSpPr>
            <a:xfrm>
              <a:off x="927000" y="2476440"/>
              <a:ext cx="749160" cy="1688760"/>
              <a:chOff x="927000" y="2476440"/>
              <a:chExt cx="749160" cy="1688760"/>
            </a:xfrm>
          </p:grpSpPr>
          <p:sp>
            <p:nvSpPr>
              <p:cNvPr id="86" name="Rectangle 18"/>
              <p:cNvSpPr/>
              <p:nvPr/>
            </p:nvSpPr>
            <p:spPr>
              <a:xfrm>
                <a:off x="927000" y="2476440"/>
                <a:ext cx="749160" cy="1688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87" name="Rectangle 19"/>
              <p:cNvSpPr/>
              <p:nvPr/>
            </p:nvSpPr>
            <p:spPr>
              <a:xfrm>
                <a:off x="927000" y="2476440"/>
                <a:ext cx="749160" cy="291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88" name="Rectangle 20"/>
              <p:cNvSpPr/>
              <p:nvPr/>
            </p:nvSpPr>
            <p:spPr>
              <a:xfrm>
                <a:off x="927000" y="2768400"/>
                <a:ext cx="749160" cy="29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89" name="Rectangle 21"/>
              <p:cNvSpPr/>
              <p:nvPr/>
            </p:nvSpPr>
            <p:spPr>
              <a:xfrm>
                <a:off x="927000" y="3060360"/>
                <a:ext cx="749160" cy="76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Line 22"/>
            <p:cNvSpPr/>
            <p:nvPr/>
          </p:nvSpPr>
          <p:spPr>
            <a:xfrm>
              <a:off x="6121440" y="2489040"/>
              <a:ext cx="0" cy="170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1" name="Line 23"/>
            <p:cNvSpPr/>
            <p:nvPr/>
          </p:nvSpPr>
          <p:spPr>
            <a:xfrm>
              <a:off x="6121440" y="41907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grpSp>
          <p:nvGrpSpPr>
            <p:cNvPr id="92" name="Group 44"/>
            <p:cNvGrpSpPr/>
            <p:nvPr/>
          </p:nvGrpSpPr>
          <p:grpSpPr>
            <a:xfrm>
              <a:off x="6311880" y="2997000"/>
              <a:ext cx="952560" cy="926640"/>
              <a:chOff x="6311880" y="2997000"/>
              <a:chExt cx="952560" cy="926640"/>
            </a:xfrm>
          </p:grpSpPr>
          <p:sp>
            <p:nvSpPr>
              <p:cNvPr id="93" name="Line 35"/>
              <p:cNvSpPr/>
              <p:nvPr/>
            </p:nvSpPr>
            <p:spPr>
              <a:xfrm>
                <a:off x="6311880" y="392364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94" name="Line 36"/>
              <p:cNvSpPr/>
              <p:nvPr/>
            </p:nvSpPr>
            <p:spPr>
              <a:xfrm>
                <a:off x="6540480" y="361908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95" name="Line 37"/>
              <p:cNvSpPr/>
              <p:nvPr/>
            </p:nvSpPr>
            <p:spPr>
              <a:xfrm>
                <a:off x="6819840" y="3288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96" name="Line 38"/>
              <p:cNvSpPr/>
              <p:nvPr/>
            </p:nvSpPr>
            <p:spPr>
              <a:xfrm>
                <a:off x="7035840" y="29970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Text Box 40"/>
            <p:cNvSpPr/>
            <p:nvPr/>
          </p:nvSpPr>
          <p:spPr>
            <a:xfrm>
              <a:off x="5765760" y="374616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8" name="Text Box 41"/>
            <p:cNvSpPr/>
            <p:nvPr/>
          </p:nvSpPr>
          <p:spPr>
            <a:xfrm>
              <a:off x="5778360" y="3390840"/>
              <a:ext cx="36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9" name="Text Box 42"/>
            <p:cNvSpPr/>
            <p:nvPr/>
          </p:nvSpPr>
          <p:spPr>
            <a:xfrm>
              <a:off x="5791320" y="30603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00" name="Text Box 43"/>
            <p:cNvSpPr/>
            <p:nvPr/>
          </p:nvSpPr>
          <p:spPr>
            <a:xfrm>
              <a:off x="5791320" y="2742840"/>
              <a:ext cx="34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grpSp>
          <p:nvGrpSpPr>
            <p:cNvPr id="101" name="Group 45"/>
            <p:cNvGrpSpPr/>
            <p:nvPr/>
          </p:nvGrpSpPr>
          <p:grpSpPr>
            <a:xfrm>
              <a:off x="7315200" y="2997000"/>
              <a:ext cx="952560" cy="926640"/>
              <a:chOff x="7315200" y="2997000"/>
              <a:chExt cx="952560" cy="926640"/>
            </a:xfrm>
          </p:grpSpPr>
          <p:sp>
            <p:nvSpPr>
              <p:cNvPr id="102" name="Line 46"/>
              <p:cNvSpPr/>
              <p:nvPr/>
            </p:nvSpPr>
            <p:spPr>
              <a:xfrm>
                <a:off x="7315200" y="392364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103" name="Line 47"/>
              <p:cNvSpPr/>
              <p:nvPr/>
            </p:nvSpPr>
            <p:spPr>
              <a:xfrm>
                <a:off x="7543800" y="361908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104" name="Line 48"/>
              <p:cNvSpPr/>
              <p:nvPr/>
            </p:nvSpPr>
            <p:spPr>
              <a:xfrm>
                <a:off x="7823160" y="3288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105" name="Line 49"/>
              <p:cNvSpPr/>
              <p:nvPr/>
            </p:nvSpPr>
            <p:spPr>
              <a:xfrm>
                <a:off x="8039160" y="29970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50"/>
            <p:cNvSpPr/>
            <p:nvPr/>
          </p:nvSpPr>
          <p:spPr>
            <a:xfrm>
              <a:off x="6147000" y="4203360"/>
              <a:ext cx="14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07" name="Line 51"/>
            <p:cNvSpPr/>
            <p:nvPr/>
          </p:nvSpPr>
          <p:spPr>
            <a:xfrm>
              <a:off x="7493040" y="440676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08" name="Text Box 52"/>
            <p:cNvSpPr/>
            <p:nvPr/>
          </p:nvSpPr>
          <p:spPr>
            <a:xfrm>
              <a:off x="2463840" y="36446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09" name="Text Box 53"/>
            <p:cNvSpPr/>
            <p:nvPr/>
          </p:nvSpPr>
          <p:spPr>
            <a:xfrm>
              <a:off x="3263760" y="35305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0" name="Text Box 54"/>
            <p:cNvSpPr/>
            <p:nvPr/>
          </p:nvSpPr>
          <p:spPr>
            <a:xfrm>
              <a:off x="4000680" y="35812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1" name="Text Box 55"/>
            <p:cNvSpPr/>
            <p:nvPr/>
          </p:nvSpPr>
          <p:spPr>
            <a:xfrm>
              <a:off x="4788000" y="35431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2" name="Text Box 56"/>
            <p:cNvSpPr/>
            <p:nvPr/>
          </p:nvSpPr>
          <p:spPr>
            <a:xfrm>
              <a:off x="1066680" y="2438280"/>
              <a:ext cx="62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3" name="Text Box 57"/>
            <p:cNvSpPr/>
            <p:nvPr/>
          </p:nvSpPr>
          <p:spPr>
            <a:xfrm>
              <a:off x="1066680" y="273024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4" name="Text Box 58"/>
            <p:cNvSpPr/>
            <p:nvPr/>
          </p:nvSpPr>
          <p:spPr>
            <a:xfrm>
              <a:off x="1041480" y="32637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5" name="Text Box 59"/>
            <p:cNvSpPr/>
            <p:nvPr/>
          </p:nvSpPr>
          <p:spPr>
            <a:xfrm>
              <a:off x="1041480" y="3796920"/>
              <a:ext cx="67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cxnSp>
          <p:nvCxnSpPr>
            <p:cNvPr id="116" name="AutoShape 60"/>
            <p:cNvCxnSpPr>
              <a:stCxn id="112" idx="1"/>
              <a:endCxn id="113" idx="1"/>
            </p:cNvCxnSpPr>
            <p:nvPr/>
          </p:nvCxnSpPr>
          <p:spPr>
            <a:xfrm flipH="1" flipV="1" rot="10800000">
              <a:off x="1065600" y="2636640"/>
              <a:ext cx="2520" cy="29196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0">
              <a:noFill/>
            </a:ln>
          </p:spPr>
        </p:cxnSp>
        <p:sp>
          <p:nvSpPr>
            <p:cNvPr id="117" name="Freeform 63"/>
            <p:cNvSpPr/>
            <p:nvPr/>
          </p:nvSpPr>
          <p:spPr>
            <a:xfrm>
              <a:off x="419040" y="1841400"/>
              <a:ext cx="660600" cy="76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8" name="Freeform 64"/>
            <p:cNvSpPr/>
            <p:nvPr/>
          </p:nvSpPr>
          <p:spPr>
            <a:xfrm>
              <a:off x="789120" y="2666880"/>
              <a:ext cx="276120" cy="291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9" name="Freeform 65"/>
            <p:cNvSpPr/>
            <p:nvPr/>
          </p:nvSpPr>
          <p:spPr>
            <a:xfrm>
              <a:off x="743040" y="2997000"/>
              <a:ext cx="336600" cy="685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>
              <a:off x="760320" y="3746160"/>
              <a:ext cx="311400" cy="34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1" name="Line 68"/>
            <p:cNvSpPr/>
            <p:nvPr/>
          </p:nvSpPr>
          <p:spPr>
            <a:xfrm>
              <a:off x="1066680" y="255240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2" name="Line 69"/>
            <p:cNvSpPr/>
            <p:nvPr/>
          </p:nvSpPr>
          <p:spPr>
            <a:xfrm>
              <a:off x="1054080" y="2908080"/>
              <a:ext cx="1260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3" name="Line 70"/>
            <p:cNvSpPr/>
            <p:nvPr/>
          </p:nvSpPr>
          <p:spPr>
            <a:xfrm>
              <a:off x="1079640" y="3657240"/>
              <a:ext cx="1260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4" name="Line 71"/>
            <p:cNvSpPr/>
            <p:nvPr/>
          </p:nvSpPr>
          <p:spPr>
            <a:xfrm>
              <a:off x="1054080" y="4038480"/>
              <a:ext cx="1260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5" name="Text Box 72"/>
            <p:cNvSpPr/>
            <p:nvPr/>
          </p:nvSpPr>
          <p:spPr>
            <a:xfrm rot="10800000">
              <a:off x="5428800" y="2819160"/>
              <a:ext cx="485280" cy="12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6" name="Text Box 73"/>
            <p:cNvSpPr/>
            <p:nvPr/>
          </p:nvSpPr>
          <p:spPr>
            <a:xfrm>
              <a:off x="298080" y="1573200"/>
              <a:ext cx="226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Un contador de programa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7" name="Text Box 74"/>
            <p:cNvSpPr/>
            <p:nvPr/>
          </p:nvSpPr>
          <p:spPr>
            <a:xfrm>
              <a:off x="1612800" y="2260440"/>
              <a:ext cx="113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Cambio de proceso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128" name="Text Box 76"/>
          <p:cNvSpPr/>
          <p:nvPr/>
        </p:nvSpPr>
        <p:spPr>
          <a:xfrm>
            <a:off x="1028880" y="46227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9" name="Text Box 77"/>
          <p:cNvSpPr/>
          <p:nvPr/>
        </p:nvSpPr>
        <p:spPr>
          <a:xfrm>
            <a:off x="3670200" y="4597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0" name="Text Box 78"/>
          <p:cNvSpPr/>
          <p:nvPr/>
        </p:nvSpPr>
        <p:spPr>
          <a:xfrm>
            <a:off x="6896160" y="4597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0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A44C-FE97-4A94-9A84-C7EDC68E1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907920" y="1647720"/>
            <a:ext cx="618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Mecanismo: Variable cerrojo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= 0, RC libre;  variable = 1, RC ocupada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ocolo de entrada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variable = 0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variable:=1; entrar en RC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perar hasta que variable = 0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tocolo de salida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:= 0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83720" y="0"/>
            <a:ext cx="77742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Comunicación entr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3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Exclusión mutua con espera activa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6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F168-D338-4CAC-9244-C795F0843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900000" y="1495440"/>
            <a:ext cx="7710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Mecanismo: Test and Set Lock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SL RX, LOCK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ee el contenido de LOCK en RX y pone un valor distinto de 0 en LOCK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8408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Comunicación entr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4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Exclusión mutua con espera activa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70" name="Picture 7" descr=""/>
          <p:cNvPicPr/>
          <p:nvPr/>
        </p:nvPicPr>
        <p:blipFill>
          <a:blip r:embed="rId1"/>
          <a:stretch/>
        </p:blipFill>
        <p:spPr>
          <a:xfrm>
            <a:off x="981000" y="2924280"/>
            <a:ext cx="7772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3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304C-57C2-47F5-8331-584B8FD05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909000" y="2009880"/>
            <a:ext cx="6604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soluciones hardware y software son correcta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blemas con las soluciones hardware y software: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ierde tiempo haciendo pooling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blema de la inversión de prioridad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8408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Comunicación entr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5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Exclusión mutua con espera activa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9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92DD-9345-4289-87BD-85D2F04A9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1012680" y="1890720"/>
            <a:ext cx="6518520" cy="36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ackage Semaforos is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type SEMAFOROS is private;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Inicializar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(S: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SEMAFOROS;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Valor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TEGER);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Bajar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(S: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SEMAFOROS);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Subir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(S: SEMAFOROS);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nd Semaforos;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8408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Comunicación entr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6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emáfor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5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5C3D-438B-4AF3-8442-3147F2597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863640" y="1098720"/>
            <a:ext cx="44956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Program Cuenta_Eventos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Contador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: INTEGER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: SEMAFOROS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process Observador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sperar_Evento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Bajar (S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Contador := Contador + 1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Subir (S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forever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nd Observador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process Reportero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Bajar (S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mprimir (Contador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Contador := 0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Subir (S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forever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nd Reportero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5626440" y="1251000"/>
            <a:ext cx="286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Inicializar (S, 1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Observador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Reportero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nd Cuenta_Eventos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8408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Comunicación entr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7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emáfor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2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1BF8-E8EB-4F15-9A95-6CDF7BB96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1065600" y="1357200"/>
            <a:ext cx="5301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type SEMAFOROS is private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Inicializar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(S     :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SEMAFOROS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Valor :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NTEGER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Bajar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(S : SEMAFOROS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Subir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(S : SEMAFOROS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private -- Inaccesible al usuario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type SEMAFOROS is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record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Contador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: INTEGER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Cola     : COLA_PROCESOS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--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Inicializar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(S     : SEMAFOROS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Valor : INTEGER) is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S.Contador := Valor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nd Inicializar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8408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Comunicación entr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8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emáfor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8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289B-24D6-421D-84F0-F6F12415A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1135800" y="1160640"/>
            <a:ext cx="78008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Bajar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(S : SEMAFOROS) is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f S.Contador &lt; 1 then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ncolar (Este_Proceso, S.Cola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Suspender; -- Implica llamada al Planificador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S.Contador := S.Contador - 1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ndif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nd Bajar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procedure </a:t>
            </a: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Subir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 (S : SEMAFOROS) is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Proceso : ID_PROCESO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f s.Cola.Primero /= 0 then -- Si algun proc. Esperando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Desencolar (Proceso, S.Cola)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Preparar (Proceso); -- Llamada al Planificador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S.Contador := S.Contador + 1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ndif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nd Subir;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8408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Comunicación entr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9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emáfor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4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F755-4412-42F8-8E08-C298EBD0D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632040" y="113184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unicación entre Procesos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1346040" y="2122560"/>
            <a:ext cx="29718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Memoria Compartida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riable Cerrojo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nitores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máforos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5232240" y="2122560"/>
            <a:ext cx="2210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aso de Mensajes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No hay variables compartidas)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9" name="Line 6"/>
          <p:cNvSpPr/>
          <p:nvPr/>
        </p:nvSpPr>
        <p:spPr>
          <a:xfrm flipH="1">
            <a:off x="2984400" y="1741320"/>
            <a:ext cx="1447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0" name="Line 7"/>
          <p:cNvSpPr/>
          <p:nvPr/>
        </p:nvSpPr>
        <p:spPr>
          <a:xfrm>
            <a:off x="4470480" y="1741320"/>
            <a:ext cx="14475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8408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Comunicación entr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10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aso de mensaj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2" name="Text Box 22"/>
          <p:cNvSpPr/>
          <p:nvPr/>
        </p:nvSpPr>
        <p:spPr>
          <a:xfrm>
            <a:off x="660240" y="3755880"/>
            <a:ext cx="80424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imitivas (Llamadas al sistema): 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nd (destino, &amp;mensaje)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eive (fuente, &amp;mensaje)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receive (ANY, &amp;mensaje)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3" name="Line 23"/>
          <p:cNvSpPr/>
          <p:nvPr/>
        </p:nvSpPr>
        <p:spPr>
          <a:xfrm>
            <a:off x="4394160" y="543564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6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4958-0F90-4565-B5B4-D295CBE2B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1028880" y="1335240"/>
            <a:ext cx="2971800" cy="15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roceso P1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end (P2, &amp;mensaje1)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eceive (ANY, &amp;destino2)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5460840" y="1335240"/>
            <a:ext cx="2590920" cy="15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roceso P2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eceive (P1, &amp;destino1)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end (P1, &amp;mensaje2)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8408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Comunicación entr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11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aso de mensaj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1" name="Text Box 26"/>
          <p:cNvSpPr/>
          <p:nvPr/>
        </p:nvSpPr>
        <p:spPr>
          <a:xfrm>
            <a:off x="520560" y="3614760"/>
            <a:ext cx="7510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P1 y P2 pueden estar en distinta máquina.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pueden perder mensaje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conocimiento (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cknowledgmen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 el origen no recibe el reconocimiento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etransmite el mensaje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y si se pierde el reconocimiento?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umerar los mensajes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2" name="Line 27"/>
          <p:cNvSpPr/>
          <p:nvPr/>
        </p:nvSpPr>
        <p:spPr>
          <a:xfrm>
            <a:off x="3441600" y="4457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3" name="Line 28"/>
          <p:cNvSpPr/>
          <p:nvPr/>
        </p:nvSpPr>
        <p:spPr>
          <a:xfrm>
            <a:off x="4711680" y="473724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4" name="Line 29"/>
          <p:cNvSpPr/>
          <p:nvPr/>
        </p:nvSpPr>
        <p:spPr>
          <a:xfrm>
            <a:off x="4102200" y="5029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7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6356-D43E-43ED-A041-4698270FE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800640" y="1254240"/>
            <a:ext cx="61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Modelos comunicación. Comunicación directa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893880" y="1689120"/>
            <a:ext cx="73022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da proceso tiene su propio buzón.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da proceso implicado  debe indicar explícitamente el nombre del receptor o emisor.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531" name="Group 12"/>
          <p:cNvGrpSpPr/>
          <p:nvPr/>
        </p:nvGrpSpPr>
        <p:grpSpPr>
          <a:xfrm>
            <a:off x="2135160" y="3772080"/>
            <a:ext cx="952560" cy="914400"/>
            <a:chOff x="2135160" y="3772080"/>
            <a:chExt cx="952560" cy="914400"/>
          </a:xfrm>
        </p:grpSpPr>
        <p:sp>
          <p:nvSpPr>
            <p:cNvPr id="532" name="Oval 13"/>
            <p:cNvSpPr/>
            <p:nvPr/>
          </p:nvSpPr>
          <p:spPr>
            <a:xfrm>
              <a:off x="2135160" y="3772080"/>
              <a:ext cx="952560" cy="914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33" name="Text Box 14"/>
            <p:cNvSpPr/>
            <p:nvPr/>
          </p:nvSpPr>
          <p:spPr>
            <a:xfrm>
              <a:off x="2192400" y="39085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Proc. 1</a:t>
              </a:r>
              <a:endParaRPr b="0" lang="en-US" sz="1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534" name="Group 15"/>
          <p:cNvGrpSpPr/>
          <p:nvPr/>
        </p:nvGrpSpPr>
        <p:grpSpPr>
          <a:xfrm>
            <a:off x="5983200" y="3772080"/>
            <a:ext cx="952560" cy="914400"/>
            <a:chOff x="5983200" y="3772080"/>
            <a:chExt cx="952560" cy="914400"/>
          </a:xfrm>
        </p:grpSpPr>
        <p:sp>
          <p:nvSpPr>
            <p:cNvPr id="535" name="Oval 16"/>
            <p:cNvSpPr/>
            <p:nvPr/>
          </p:nvSpPr>
          <p:spPr>
            <a:xfrm>
              <a:off x="5983200" y="3772080"/>
              <a:ext cx="952560" cy="914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36" name="Text Box 17"/>
            <p:cNvSpPr/>
            <p:nvPr/>
          </p:nvSpPr>
          <p:spPr>
            <a:xfrm>
              <a:off x="6040440" y="39085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Proc. 2</a:t>
              </a:r>
              <a:endParaRPr b="0" lang="en-US" sz="1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37" name="Text Box 18"/>
          <p:cNvSpPr/>
          <p:nvPr/>
        </p:nvSpPr>
        <p:spPr>
          <a:xfrm>
            <a:off x="1496880" y="339084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nviar (P2, Mensaje)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5307120" y="339084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ecibir (P1, Mensaje)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5307120" y="468648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nviar (P1, Mensaje)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0" name="Text Box 21"/>
          <p:cNvSpPr/>
          <p:nvPr/>
        </p:nvSpPr>
        <p:spPr>
          <a:xfrm>
            <a:off x="1496880" y="4686480"/>
            <a:ext cx="23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Recibir (P2, Mensaje)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1" name="Line 22"/>
          <p:cNvSpPr/>
          <p:nvPr/>
        </p:nvSpPr>
        <p:spPr>
          <a:xfrm>
            <a:off x="3087720" y="407664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2" name="Line 23"/>
          <p:cNvSpPr/>
          <p:nvPr/>
        </p:nvSpPr>
        <p:spPr>
          <a:xfrm flipH="1">
            <a:off x="3087360" y="438156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3" name="AutoShape 24"/>
          <p:cNvSpPr/>
          <p:nvPr/>
        </p:nvSpPr>
        <p:spPr>
          <a:xfrm>
            <a:off x="1487520" y="3162240"/>
            <a:ext cx="6095880" cy="2133720"/>
          </a:xfrm>
          <a:prstGeom prst="roundRect">
            <a:avLst>
              <a:gd name="adj" fmla="val 1094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544" name="Group 27"/>
          <p:cNvGrpSpPr/>
          <p:nvPr/>
        </p:nvGrpSpPr>
        <p:grpSpPr>
          <a:xfrm>
            <a:off x="5221440" y="3962160"/>
            <a:ext cx="457200" cy="228960"/>
            <a:chOff x="5221440" y="3962160"/>
            <a:chExt cx="457200" cy="228960"/>
          </a:xfrm>
        </p:grpSpPr>
        <p:sp>
          <p:nvSpPr>
            <p:cNvPr id="545" name="Rectangle 28"/>
            <p:cNvSpPr/>
            <p:nvPr/>
          </p:nvSpPr>
          <p:spPr>
            <a:xfrm>
              <a:off x="5221440" y="3962520"/>
              <a:ext cx="4572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46" name="Line 29"/>
            <p:cNvSpPr/>
            <p:nvPr/>
          </p:nvSpPr>
          <p:spPr>
            <a:xfrm flipV="1">
              <a:off x="5221440" y="3962160"/>
              <a:ext cx="4572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47" name="Line 30"/>
            <p:cNvSpPr/>
            <p:nvPr/>
          </p:nvSpPr>
          <p:spPr>
            <a:xfrm>
              <a:off x="5221440" y="3962520"/>
              <a:ext cx="4572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548" name="Group 31"/>
          <p:cNvGrpSpPr/>
          <p:nvPr/>
        </p:nvGrpSpPr>
        <p:grpSpPr>
          <a:xfrm>
            <a:off x="3373560" y="4276440"/>
            <a:ext cx="457200" cy="228960"/>
            <a:chOff x="3373560" y="4276440"/>
            <a:chExt cx="457200" cy="228960"/>
          </a:xfrm>
        </p:grpSpPr>
        <p:sp>
          <p:nvSpPr>
            <p:cNvPr id="549" name="Rectangle 32"/>
            <p:cNvSpPr/>
            <p:nvPr/>
          </p:nvSpPr>
          <p:spPr>
            <a:xfrm>
              <a:off x="3373560" y="4276800"/>
              <a:ext cx="4572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50" name="Line 33"/>
            <p:cNvSpPr/>
            <p:nvPr/>
          </p:nvSpPr>
          <p:spPr>
            <a:xfrm flipV="1">
              <a:off x="3373560" y="4276440"/>
              <a:ext cx="4572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51" name="Line 34"/>
            <p:cNvSpPr/>
            <p:nvPr/>
          </p:nvSpPr>
          <p:spPr>
            <a:xfrm>
              <a:off x="3373560" y="4276800"/>
              <a:ext cx="4572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8408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Comunicación entr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12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aso de mensaj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4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3" name="6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55DE-8C3A-46E6-ABA5-F3BFB1ACB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Procesos (2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Creación/Terminación de proces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8280" y="1498680"/>
            <a:ext cx="421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ncipales eventos que causan la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reación de proceso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alización del sistema (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moni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[comando ps]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 de la llamada al sistema para crear procesos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usuario solicita un nuevo proceso (comando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icio de un trabajo batch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odos invocan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fork(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1680" y="1536840"/>
            <a:ext cx="408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iciones que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80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erminan un proceso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rmal exit (voluntario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rror exit (voluntario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tal error (involuntario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sesinado por otro proceso (involuntario, señal) o suicidado (voluntario, señal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5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62B4-9E3B-457D-B813-CD2596B55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902160" y="1101600"/>
            <a:ext cx="64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Modelos comunicación. Comunicación indirecta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1038240" y="2581200"/>
            <a:ext cx="838080" cy="731880"/>
            <a:chOff x="1038240" y="2581200"/>
            <a:chExt cx="838080" cy="731880"/>
          </a:xfrm>
        </p:grpSpPr>
        <p:sp>
          <p:nvSpPr>
            <p:cNvPr id="559" name="Oval 5"/>
            <p:cNvSpPr/>
            <p:nvPr/>
          </p:nvSpPr>
          <p:spPr>
            <a:xfrm>
              <a:off x="1076040" y="2581200"/>
              <a:ext cx="761760" cy="7318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60" name="Text Box 6"/>
            <p:cNvSpPr/>
            <p:nvPr/>
          </p:nvSpPr>
          <p:spPr>
            <a:xfrm>
              <a:off x="1038240" y="262728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Obs. 1</a:t>
              </a:r>
              <a:endParaRPr b="0" lang="en-US" sz="1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561" name="Group 7"/>
          <p:cNvGrpSpPr/>
          <p:nvPr/>
        </p:nvGrpSpPr>
        <p:grpSpPr>
          <a:xfrm>
            <a:off x="1038240" y="3724200"/>
            <a:ext cx="838080" cy="731880"/>
            <a:chOff x="1038240" y="3724200"/>
            <a:chExt cx="838080" cy="731880"/>
          </a:xfrm>
        </p:grpSpPr>
        <p:sp>
          <p:nvSpPr>
            <p:cNvPr id="562" name="Oval 8"/>
            <p:cNvSpPr/>
            <p:nvPr/>
          </p:nvSpPr>
          <p:spPr>
            <a:xfrm>
              <a:off x="1076040" y="3724200"/>
              <a:ext cx="761760" cy="7318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63" name="Text Box 9"/>
            <p:cNvSpPr/>
            <p:nvPr/>
          </p:nvSpPr>
          <p:spPr>
            <a:xfrm>
              <a:off x="1038240" y="377028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Obs. 2</a:t>
              </a:r>
              <a:endParaRPr b="0" lang="en-US" sz="1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564" name="Group 10"/>
          <p:cNvGrpSpPr/>
          <p:nvPr/>
        </p:nvGrpSpPr>
        <p:grpSpPr>
          <a:xfrm>
            <a:off x="1038240" y="4867200"/>
            <a:ext cx="838080" cy="731880"/>
            <a:chOff x="1038240" y="4867200"/>
            <a:chExt cx="838080" cy="731880"/>
          </a:xfrm>
        </p:grpSpPr>
        <p:sp>
          <p:nvSpPr>
            <p:cNvPr id="565" name="Oval 11"/>
            <p:cNvSpPr/>
            <p:nvPr/>
          </p:nvSpPr>
          <p:spPr>
            <a:xfrm>
              <a:off x="1076040" y="4867200"/>
              <a:ext cx="761760" cy="7318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66" name="Text Box 12"/>
            <p:cNvSpPr/>
            <p:nvPr/>
          </p:nvSpPr>
          <p:spPr>
            <a:xfrm>
              <a:off x="1038240" y="491328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Obs. 3</a:t>
              </a:r>
              <a:endParaRPr b="0" lang="en-US" sz="1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567" name="Group 13"/>
          <p:cNvGrpSpPr/>
          <p:nvPr/>
        </p:nvGrpSpPr>
        <p:grpSpPr>
          <a:xfrm>
            <a:off x="6296040" y="3724200"/>
            <a:ext cx="838080" cy="731880"/>
            <a:chOff x="6296040" y="3724200"/>
            <a:chExt cx="838080" cy="731880"/>
          </a:xfrm>
        </p:grpSpPr>
        <p:sp>
          <p:nvSpPr>
            <p:cNvPr id="568" name="Oval 14"/>
            <p:cNvSpPr/>
            <p:nvPr/>
          </p:nvSpPr>
          <p:spPr>
            <a:xfrm>
              <a:off x="6333840" y="3724200"/>
              <a:ext cx="761760" cy="7318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69" name="Text Box 15"/>
            <p:cNvSpPr/>
            <p:nvPr/>
          </p:nvSpPr>
          <p:spPr>
            <a:xfrm>
              <a:off x="6296040" y="377028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p.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570" name="Group 16"/>
          <p:cNvGrpSpPr/>
          <p:nvPr/>
        </p:nvGrpSpPr>
        <p:grpSpPr>
          <a:xfrm>
            <a:off x="3857760" y="3419280"/>
            <a:ext cx="457200" cy="228960"/>
            <a:chOff x="3857760" y="3419280"/>
            <a:chExt cx="457200" cy="228960"/>
          </a:xfrm>
        </p:grpSpPr>
        <p:sp>
          <p:nvSpPr>
            <p:cNvPr id="571" name="Rectangle 17"/>
            <p:cNvSpPr/>
            <p:nvPr/>
          </p:nvSpPr>
          <p:spPr>
            <a:xfrm>
              <a:off x="3857760" y="3419640"/>
              <a:ext cx="4572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72" name="Line 18"/>
            <p:cNvSpPr/>
            <p:nvPr/>
          </p:nvSpPr>
          <p:spPr>
            <a:xfrm flipV="1">
              <a:off x="3857760" y="3419280"/>
              <a:ext cx="4572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73" name="Line 19"/>
            <p:cNvSpPr/>
            <p:nvPr/>
          </p:nvSpPr>
          <p:spPr>
            <a:xfrm>
              <a:off x="3857760" y="3419640"/>
              <a:ext cx="4572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74" name="Text Box 20"/>
          <p:cNvSpPr/>
          <p:nvPr/>
        </p:nvSpPr>
        <p:spPr>
          <a:xfrm>
            <a:off x="1038240" y="33433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viar (Buzón_1, Mensaje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4910040" y="3419640"/>
            <a:ext cx="26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cibir (Buzón_1, Mensaje);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6" name="Text Box 22"/>
          <p:cNvSpPr/>
          <p:nvPr/>
        </p:nvSpPr>
        <p:spPr>
          <a:xfrm>
            <a:off x="1038240" y="441000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viar (Buzón_1, Mensaje)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viar (Buzón_2, Mensaje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577" name="Group 23"/>
          <p:cNvGrpSpPr/>
          <p:nvPr/>
        </p:nvGrpSpPr>
        <p:grpSpPr>
          <a:xfrm>
            <a:off x="3857760" y="4562280"/>
            <a:ext cx="457200" cy="228960"/>
            <a:chOff x="3857760" y="4562280"/>
            <a:chExt cx="457200" cy="228960"/>
          </a:xfrm>
        </p:grpSpPr>
        <p:sp>
          <p:nvSpPr>
            <p:cNvPr id="578" name="Rectangle 24"/>
            <p:cNvSpPr/>
            <p:nvPr/>
          </p:nvSpPr>
          <p:spPr>
            <a:xfrm>
              <a:off x="3857760" y="4562640"/>
              <a:ext cx="4572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79" name="Line 25"/>
            <p:cNvSpPr/>
            <p:nvPr/>
          </p:nvSpPr>
          <p:spPr>
            <a:xfrm flipV="1">
              <a:off x="3857760" y="4562280"/>
              <a:ext cx="4572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80" name="Line 26"/>
            <p:cNvSpPr/>
            <p:nvPr/>
          </p:nvSpPr>
          <p:spPr>
            <a:xfrm>
              <a:off x="3857760" y="4562640"/>
              <a:ext cx="4572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581" name="Group 27"/>
          <p:cNvGrpSpPr/>
          <p:nvPr/>
        </p:nvGrpSpPr>
        <p:grpSpPr>
          <a:xfrm>
            <a:off x="6296040" y="4867200"/>
            <a:ext cx="838080" cy="731880"/>
            <a:chOff x="6296040" y="4867200"/>
            <a:chExt cx="838080" cy="731880"/>
          </a:xfrm>
        </p:grpSpPr>
        <p:sp>
          <p:nvSpPr>
            <p:cNvPr id="582" name="Oval 28"/>
            <p:cNvSpPr/>
            <p:nvPr/>
          </p:nvSpPr>
          <p:spPr>
            <a:xfrm>
              <a:off x="6333840" y="4867200"/>
              <a:ext cx="761760" cy="7318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83" name="Text Box 29"/>
            <p:cNvSpPr/>
            <p:nvPr/>
          </p:nvSpPr>
          <p:spPr>
            <a:xfrm>
              <a:off x="6296040" y="491328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p.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84" name="Line 30"/>
          <p:cNvSpPr/>
          <p:nvPr/>
        </p:nvSpPr>
        <p:spPr>
          <a:xfrm>
            <a:off x="1876320" y="2886120"/>
            <a:ext cx="19814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5" name="Line 31"/>
          <p:cNvSpPr/>
          <p:nvPr/>
        </p:nvSpPr>
        <p:spPr>
          <a:xfrm flipV="1">
            <a:off x="1876320" y="3571920"/>
            <a:ext cx="198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6" name="Line 32"/>
          <p:cNvSpPr/>
          <p:nvPr/>
        </p:nvSpPr>
        <p:spPr>
          <a:xfrm>
            <a:off x="1876320" y="4105440"/>
            <a:ext cx="19814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7" name="Line 33"/>
          <p:cNvSpPr/>
          <p:nvPr/>
        </p:nvSpPr>
        <p:spPr>
          <a:xfrm flipV="1">
            <a:off x="1876320" y="4714920"/>
            <a:ext cx="198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8" name="Text Box 34"/>
          <p:cNvSpPr/>
          <p:nvPr/>
        </p:nvSpPr>
        <p:spPr>
          <a:xfrm>
            <a:off x="3552840" y="30384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Buzón_1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9" name="Text Box 35"/>
          <p:cNvSpPr/>
          <p:nvPr/>
        </p:nvSpPr>
        <p:spPr>
          <a:xfrm>
            <a:off x="3552840" y="41814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Buzón_2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0" name="Text Box 36"/>
          <p:cNvSpPr/>
          <p:nvPr/>
        </p:nvSpPr>
        <p:spPr>
          <a:xfrm>
            <a:off x="1038240" y="56293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Enviar (Buzón_2, Mensaje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1" name="Line 37"/>
          <p:cNvSpPr/>
          <p:nvPr/>
        </p:nvSpPr>
        <p:spPr>
          <a:xfrm flipH="1" flipV="1">
            <a:off x="4314600" y="3495600"/>
            <a:ext cx="1981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2" name="Line 38"/>
          <p:cNvSpPr/>
          <p:nvPr/>
        </p:nvSpPr>
        <p:spPr>
          <a:xfrm flipH="1">
            <a:off x="4314600" y="4105440"/>
            <a:ext cx="198108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3" name="Line 39"/>
          <p:cNvSpPr/>
          <p:nvPr/>
        </p:nvSpPr>
        <p:spPr>
          <a:xfrm flipH="1" flipV="1">
            <a:off x="4314600" y="4714920"/>
            <a:ext cx="1981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4" name="Text Box 40"/>
          <p:cNvSpPr/>
          <p:nvPr/>
        </p:nvSpPr>
        <p:spPr>
          <a:xfrm>
            <a:off x="898560" y="1527120"/>
            <a:ext cx="76057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Buzones Son Compartidos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mensajes se envían y reciben a/de buzones, no a procesos.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5" name="Text Box 41"/>
          <p:cNvSpPr/>
          <p:nvPr/>
        </p:nvSpPr>
        <p:spPr>
          <a:xfrm>
            <a:off x="4910040" y="4486320"/>
            <a:ext cx="26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cibir (Buzón_2, Mensaje);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6" name="Text Box 42"/>
          <p:cNvSpPr/>
          <p:nvPr/>
        </p:nvSpPr>
        <p:spPr>
          <a:xfrm>
            <a:off x="4910040" y="5629320"/>
            <a:ext cx="26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urier New"/>
              </a:rPr>
              <a:t>Recibir (Buzón_2, Mensaje);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8408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Comunicación entr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13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aso de mensaj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8" name="AutoShape 45"/>
          <p:cNvSpPr/>
          <p:nvPr/>
        </p:nvSpPr>
        <p:spPr>
          <a:xfrm>
            <a:off x="852480" y="2362320"/>
            <a:ext cx="6946920" cy="3771720"/>
          </a:xfrm>
          <a:prstGeom prst="roundRect">
            <a:avLst>
              <a:gd name="adj" fmla="val 1094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1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89FD-93DD-455A-8305-C7906D591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392760" y="112068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Tamaño del buzón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803160" y="16542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pacidad Limitada (n mensajes)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1488960" y="21240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i hay espacio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El emisor continúa la ejecución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                           después del envío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1488960" y="2809800"/>
            <a:ext cx="5639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Si está lleno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 -   El emisor queda bloqueado hasta que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                               haya espacio en el buzón para dejar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                               un mensaje.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-   Se devuelve un </a:t>
            </a:r>
            <a:r>
              <a:rPr b="0" i="1" lang="es-ES_tradnl" sz="1600" spc="-1" strike="noStrike">
                <a:solidFill>
                  <a:srgbClr val="000000"/>
                </a:solidFill>
                <a:latin typeface="Comic Sans MS"/>
              </a:rPr>
              <a:t>status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= lleno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803160" y="446724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pacidad Ilimitada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1488960" y="48481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l emisor nunca se bloquea en el envío de mensajes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803160" y="5153040"/>
            <a:ext cx="43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pacidad Nula (rendez-vous)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0" name="Text Box 10"/>
          <p:cNvSpPr/>
          <p:nvPr/>
        </p:nvSpPr>
        <p:spPr>
          <a:xfrm>
            <a:off x="1488960" y="553392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El emisor queda bloqueado hasta que el receptor está listo para recibir el mensaje.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1" name="Line 11"/>
          <p:cNvSpPr/>
          <p:nvPr/>
        </p:nvSpPr>
        <p:spPr>
          <a:xfrm>
            <a:off x="6269040" y="2332080"/>
            <a:ext cx="17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2" name="Line 12"/>
          <p:cNvSpPr/>
          <p:nvPr/>
        </p:nvSpPr>
        <p:spPr>
          <a:xfrm>
            <a:off x="3616200" y="4683240"/>
            <a:ext cx="446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3" name="Line 13"/>
          <p:cNvSpPr/>
          <p:nvPr/>
        </p:nvSpPr>
        <p:spPr>
          <a:xfrm>
            <a:off x="8055000" y="2332080"/>
            <a:ext cx="1260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4" name="Line 14"/>
          <p:cNvSpPr/>
          <p:nvPr/>
        </p:nvSpPr>
        <p:spPr>
          <a:xfrm flipV="1">
            <a:off x="8077320" y="3332160"/>
            <a:ext cx="0" cy="13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7295760" y="28004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síncrono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6" name="Text Box 16"/>
          <p:cNvSpPr/>
          <p:nvPr/>
        </p:nvSpPr>
        <p:spPr>
          <a:xfrm>
            <a:off x="7404840" y="5102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íncrono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8408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Comunicación entr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14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aso de mensaje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8" name="Line 18"/>
          <p:cNvSpPr/>
          <p:nvPr/>
        </p:nvSpPr>
        <p:spPr>
          <a:xfrm>
            <a:off x="4622760" y="5372280"/>
            <a:ext cx="269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1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47ED-689D-47F6-B6E4-BFAC8DFF9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Planificación de procesos (1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72600" y="5124240"/>
            <a:ext cx="8458200" cy="14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ificar conjuntamente procesos CPU bound con procesos I/O bound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ificar cuando: proceso creado, muerto o bloqueado, int. reloj o fin de E/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24" name="Group 43"/>
          <p:cNvGrpSpPr/>
          <p:nvPr/>
        </p:nvGrpSpPr>
        <p:grpSpPr>
          <a:xfrm>
            <a:off x="882720" y="1828800"/>
            <a:ext cx="7273800" cy="2856240"/>
            <a:chOff x="882720" y="1828800"/>
            <a:chExt cx="7273800" cy="2856240"/>
          </a:xfrm>
        </p:grpSpPr>
        <p:sp>
          <p:nvSpPr>
            <p:cNvPr id="625" name="Rectangle 5"/>
            <p:cNvSpPr/>
            <p:nvPr/>
          </p:nvSpPr>
          <p:spPr>
            <a:xfrm>
              <a:off x="1162080" y="1828800"/>
              <a:ext cx="1333440" cy="162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26" name="Rectangle 6"/>
            <p:cNvSpPr/>
            <p:nvPr/>
          </p:nvSpPr>
          <p:spPr>
            <a:xfrm>
              <a:off x="3159000" y="1835280"/>
              <a:ext cx="1333800" cy="161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27" name="Rectangle 7"/>
            <p:cNvSpPr/>
            <p:nvPr/>
          </p:nvSpPr>
          <p:spPr>
            <a:xfrm>
              <a:off x="4902120" y="1835280"/>
              <a:ext cx="938160" cy="161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28" name="Rectangle 8"/>
            <p:cNvSpPr/>
            <p:nvPr/>
          </p:nvSpPr>
          <p:spPr>
            <a:xfrm>
              <a:off x="6489720" y="1832040"/>
              <a:ext cx="1600200" cy="162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29" name="Line 9"/>
            <p:cNvSpPr/>
            <p:nvPr/>
          </p:nvSpPr>
          <p:spPr>
            <a:xfrm>
              <a:off x="2495520" y="1905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30" name="Line 10"/>
            <p:cNvSpPr/>
            <p:nvPr/>
          </p:nvSpPr>
          <p:spPr>
            <a:xfrm>
              <a:off x="4502160" y="1911240"/>
              <a:ext cx="4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31" name="Line 11"/>
            <p:cNvSpPr/>
            <p:nvPr/>
          </p:nvSpPr>
          <p:spPr>
            <a:xfrm>
              <a:off x="5861160" y="1927080"/>
              <a:ext cx="61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32" name="Rectangle 12"/>
            <p:cNvSpPr/>
            <p:nvPr/>
          </p:nvSpPr>
          <p:spPr>
            <a:xfrm>
              <a:off x="1158840" y="3835440"/>
              <a:ext cx="285840" cy="171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33" name="Rectangle 13"/>
            <p:cNvSpPr/>
            <p:nvPr/>
          </p:nvSpPr>
          <p:spPr>
            <a:xfrm>
              <a:off x="1936800" y="3841920"/>
              <a:ext cx="196920" cy="161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34" name="Rectangle 14"/>
            <p:cNvSpPr/>
            <p:nvPr/>
          </p:nvSpPr>
          <p:spPr>
            <a:xfrm>
              <a:off x="2647800" y="3838680"/>
              <a:ext cx="82800" cy="171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35" name="Rectangle 15"/>
            <p:cNvSpPr/>
            <p:nvPr/>
          </p:nvSpPr>
          <p:spPr>
            <a:xfrm>
              <a:off x="3254400" y="3835440"/>
              <a:ext cx="82440" cy="171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36" name="Rectangle 16"/>
            <p:cNvSpPr/>
            <p:nvPr/>
          </p:nvSpPr>
          <p:spPr>
            <a:xfrm>
              <a:off x="3863880" y="3844800"/>
              <a:ext cx="111240" cy="171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37" name="Rectangle 17"/>
            <p:cNvSpPr/>
            <p:nvPr/>
          </p:nvSpPr>
          <p:spPr>
            <a:xfrm>
              <a:off x="4397400" y="3835440"/>
              <a:ext cx="120600" cy="1810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38" name="Rectangle 18"/>
            <p:cNvSpPr/>
            <p:nvPr/>
          </p:nvSpPr>
          <p:spPr>
            <a:xfrm>
              <a:off x="5006880" y="3854520"/>
              <a:ext cx="368280" cy="152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39" name="Rectangle 19"/>
            <p:cNvSpPr/>
            <p:nvPr/>
          </p:nvSpPr>
          <p:spPr>
            <a:xfrm>
              <a:off x="5826240" y="3835440"/>
              <a:ext cx="82440" cy="171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40" name="Rectangle 20"/>
            <p:cNvSpPr/>
            <p:nvPr/>
          </p:nvSpPr>
          <p:spPr>
            <a:xfrm>
              <a:off x="6559560" y="3835440"/>
              <a:ext cx="206280" cy="171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41" name="Rectangle 21"/>
            <p:cNvSpPr/>
            <p:nvPr/>
          </p:nvSpPr>
          <p:spPr>
            <a:xfrm>
              <a:off x="7207200" y="3835440"/>
              <a:ext cx="82440" cy="171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42" name="Rectangle 22"/>
            <p:cNvSpPr/>
            <p:nvPr/>
          </p:nvSpPr>
          <p:spPr>
            <a:xfrm>
              <a:off x="7731000" y="3825720"/>
              <a:ext cx="82800" cy="1717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43" name="Line 23"/>
            <p:cNvSpPr/>
            <p:nvPr/>
          </p:nvSpPr>
          <p:spPr>
            <a:xfrm>
              <a:off x="1438200" y="392436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44" name="Line 24"/>
            <p:cNvSpPr/>
            <p:nvPr/>
          </p:nvSpPr>
          <p:spPr>
            <a:xfrm>
              <a:off x="2130480" y="39211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45" name="Line 25"/>
            <p:cNvSpPr/>
            <p:nvPr/>
          </p:nvSpPr>
          <p:spPr>
            <a:xfrm>
              <a:off x="2730600" y="3911760"/>
              <a:ext cx="52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46" name="Line 26"/>
            <p:cNvSpPr/>
            <p:nvPr/>
          </p:nvSpPr>
          <p:spPr>
            <a:xfrm>
              <a:off x="3340080" y="39117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47" name="Line 27"/>
            <p:cNvSpPr/>
            <p:nvPr/>
          </p:nvSpPr>
          <p:spPr>
            <a:xfrm>
              <a:off x="3978360" y="3921120"/>
              <a:ext cx="41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48" name="Line 28"/>
            <p:cNvSpPr/>
            <p:nvPr/>
          </p:nvSpPr>
          <p:spPr>
            <a:xfrm>
              <a:off x="4521240" y="392112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49" name="Line 29"/>
            <p:cNvSpPr/>
            <p:nvPr/>
          </p:nvSpPr>
          <p:spPr>
            <a:xfrm>
              <a:off x="5369040" y="3911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50" name="Line 30"/>
            <p:cNvSpPr/>
            <p:nvPr/>
          </p:nvSpPr>
          <p:spPr>
            <a:xfrm>
              <a:off x="5911920" y="3921120"/>
              <a:ext cx="6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51" name="Line 31"/>
            <p:cNvSpPr/>
            <p:nvPr/>
          </p:nvSpPr>
          <p:spPr>
            <a:xfrm>
              <a:off x="6764400" y="3911760"/>
              <a:ext cx="44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52" name="Line 32"/>
            <p:cNvSpPr/>
            <p:nvPr/>
          </p:nvSpPr>
          <p:spPr>
            <a:xfrm>
              <a:off x="7288200" y="3911760"/>
              <a:ext cx="44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53" name="Line 33"/>
            <p:cNvSpPr/>
            <p:nvPr/>
          </p:nvSpPr>
          <p:spPr>
            <a:xfrm>
              <a:off x="7816680" y="391176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54" name="Line 34"/>
            <p:cNvSpPr/>
            <p:nvPr/>
          </p:nvSpPr>
          <p:spPr>
            <a:xfrm flipH="1">
              <a:off x="3343320" y="3381480"/>
              <a:ext cx="29520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55" name="Line 35"/>
            <p:cNvSpPr/>
            <p:nvPr/>
          </p:nvSpPr>
          <p:spPr>
            <a:xfrm>
              <a:off x="7064280" y="3130560"/>
              <a:ext cx="41904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56" name="Line 36"/>
            <p:cNvSpPr/>
            <p:nvPr/>
          </p:nvSpPr>
          <p:spPr>
            <a:xfrm flipH="1" flipV="1">
              <a:off x="6213240" y="1936440"/>
              <a:ext cx="447480" cy="8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57" name="Line 37"/>
            <p:cNvSpPr/>
            <p:nvPr/>
          </p:nvSpPr>
          <p:spPr>
            <a:xfrm flipV="1">
              <a:off x="1952640" y="2018880"/>
              <a:ext cx="237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58" name="Line 38"/>
            <p:cNvSpPr/>
            <p:nvPr/>
          </p:nvSpPr>
          <p:spPr>
            <a:xfrm flipV="1">
              <a:off x="4286160" y="4505400"/>
              <a:ext cx="90504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59" name="Text Box 39"/>
            <p:cNvSpPr/>
            <p:nvPr/>
          </p:nvSpPr>
          <p:spPr>
            <a:xfrm>
              <a:off x="3143160" y="42861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60" name="Text Box 40"/>
            <p:cNvSpPr/>
            <p:nvPr/>
          </p:nvSpPr>
          <p:spPr>
            <a:xfrm>
              <a:off x="2771640" y="2876400"/>
              <a:ext cx="24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áfaga de CPU corta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61" name="Text Box 41"/>
            <p:cNvSpPr/>
            <p:nvPr/>
          </p:nvSpPr>
          <p:spPr>
            <a:xfrm>
              <a:off x="882720" y="2282760"/>
              <a:ext cx="24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áfaga de CPU larga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62" name="Text Box 42"/>
            <p:cNvSpPr/>
            <p:nvPr/>
          </p:nvSpPr>
          <p:spPr>
            <a:xfrm>
              <a:off x="5689440" y="2736720"/>
              <a:ext cx="24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Esperando a E/S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5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2621-0AFF-4C20-8AE9-865ADEB77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Planificación de procesos (2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95000" y="1233360"/>
            <a:ext cx="84582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Criterios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Justicia (Fairnes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trabajos parecidos, asignación parecida de CPU (to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ficienci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% de CPU (y dispositivos de E/S) ocupada (to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iempo de retorno (turnaround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edio desde que entra un trabajo hasta que sale (bat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iempo de respuesta (response time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entre que se da un comando y se obtiene la respuesta (interac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iempo de esper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que pasa en la cola de prepa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Rendimiento (throughput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 de trabajos completados por unidad de tiempo (ba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0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BBA3-25B3-4D27-9F59-4A9AFD1FE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Planificación d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95000" y="1233360"/>
            <a:ext cx="84582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Balanceos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(Batch). Ejecuto preferentemente trabajos pequeño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to rendimiento, pero mal turnaround para trabajos gran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(Batch + interactivos) preferencia a los interactivos; los batch de noch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ximizo el 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los interactivos buen tiempo de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los batch mal turna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Si la ocupación de la cpu (eficiencia) se aproxima al 100%,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 tiempo medio de espera se aproxima a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n ocasiones, es mejor la varianza que la medi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5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2FD3-D86E-48DC-8F7C-2A375C580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Planificación de procesos (4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95000" y="1233360"/>
            <a:ext cx="84582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Categorías de algoritmos de planificación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Sistemas Batch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expulsores o expulsores con un quantum 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ducen cambios de contexto y mejoran el 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CFS, SJF, SRTN, por niv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Sistemas interactivo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pulsores: evita la monopolización de la 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ound-Robin, prioridades, múltiples colas, SPN (envejecimi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Sistemas de tiempo rea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notónico en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adline más próximo el sigu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0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5F00-AFFD-4DBA-91D7-41B5843AF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Planificación d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5)</a:t>
            </a:r>
            <a:br>
              <a:rPr sz="32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istema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atch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95000" y="1233360"/>
            <a:ext cx="84582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Primero en llegar, primero servido (FCFS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irst-Come First-Served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762120" y="2209680"/>
            <a:ext cx="7153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s simple.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iempo de espera variable. Raramente el mínimo.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esaprovecha los dispositivos de E/S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05120" y="3600360"/>
            <a:ext cx="396216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ctr" pos="571680"/>
                <a:tab algn="ctr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omic Sans MS"/>
              </a:rPr>
              <a:t>Trabajo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omic Sans MS"/>
              </a:rPr>
              <a:t>Tiempo necesario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ctr" pos="571680"/>
                <a:tab algn="ctr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ctr" pos="571680"/>
                <a:tab algn="ctr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ctr" pos="571680"/>
                <a:tab algn="ctr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685" name="Group 6"/>
          <p:cNvGrpSpPr/>
          <p:nvPr/>
        </p:nvGrpSpPr>
        <p:grpSpPr>
          <a:xfrm>
            <a:off x="1258920" y="4971960"/>
            <a:ext cx="5181480" cy="457200"/>
            <a:chOff x="1258920" y="4971960"/>
            <a:chExt cx="5181480" cy="457200"/>
          </a:xfrm>
        </p:grpSpPr>
        <p:sp>
          <p:nvSpPr>
            <p:cNvPr id="686" name="Rectangle 7"/>
            <p:cNvSpPr/>
            <p:nvPr/>
          </p:nvSpPr>
          <p:spPr>
            <a:xfrm>
              <a:off x="1258920" y="4971960"/>
              <a:ext cx="51051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87" name="Line 8"/>
            <p:cNvSpPr/>
            <p:nvPr/>
          </p:nvSpPr>
          <p:spPr>
            <a:xfrm>
              <a:off x="5678280" y="49719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88" name="Line 9"/>
            <p:cNvSpPr/>
            <p:nvPr/>
          </p:nvSpPr>
          <p:spPr>
            <a:xfrm>
              <a:off x="4992480" y="49719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89" name="Text Box 10"/>
            <p:cNvSpPr/>
            <p:nvPr/>
          </p:nvSpPr>
          <p:spPr>
            <a:xfrm>
              <a:off x="2630520" y="50482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ctr" pos="2571840"/>
                  <a:tab algn="ctr" pos="32385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Trabajo 1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 Tr. 2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 Tr. 3</a:t>
              </a:r>
              <a:endParaRPr b="0" lang="en-US" sz="1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690" name="Text Box 11"/>
          <p:cNvSpPr/>
          <p:nvPr/>
        </p:nvSpPr>
        <p:spPr>
          <a:xfrm>
            <a:off x="1457280" y="5923080"/>
            <a:ext cx="53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iempo medio de espera = (0+24+27) / 3 = 17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1" name="Text Box 12"/>
          <p:cNvSpPr/>
          <p:nvPr/>
        </p:nvSpPr>
        <p:spPr>
          <a:xfrm>
            <a:off x="1143000" y="538164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3714840"/>
                <a:tab algn="r" pos="4381560"/>
                <a:tab algn="r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27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4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6A1A-DC28-4BBC-9E6E-C21D9E879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95000" y="1386000"/>
            <a:ext cx="845820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Trabajo más corto el próximo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(SJF)  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Shortest Job Fir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762120" y="2019240"/>
            <a:ext cx="63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frece siempre el mínimo tiempo medio de espera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1905120" y="2600280"/>
            <a:ext cx="3860640" cy="13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ctr" pos="571680"/>
                <a:tab algn="ctr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omic Sans MS"/>
              </a:rPr>
              <a:t>Trabajo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Comic Sans MS"/>
              </a:rPr>
              <a:t>Tiempo necesario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ctr" pos="571680"/>
                <a:tab algn="ctr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ctr" pos="571680"/>
                <a:tab algn="ctr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ctr" pos="571680"/>
                <a:tab algn="ctr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8" name="Rectangle 15"/>
          <p:cNvSpPr/>
          <p:nvPr/>
        </p:nvSpPr>
        <p:spPr>
          <a:xfrm>
            <a:off x="1219320" y="4114800"/>
            <a:ext cx="5105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1224000" y="5119560"/>
            <a:ext cx="50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iempo medio de espera = (0+3+6) / 3 = 3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0" name="Text Box 19"/>
          <p:cNvSpPr/>
          <p:nvPr/>
        </p:nvSpPr>
        <p:spPr>
          <a:xfrm>
            <a:off x="1260360" y="4162320"/>
            <a:ext cx="444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ctr" pos="857160"/>
                <a:tab algn="ct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r. 2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Tr. 3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Trabajo 1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1" name="Text Box 20"/>
          <p:cNvSpPr/>
          <p:nvPr/>
        </p:nvSpPr>
        <p:spPr>
          <a:xfrm>
            <a:off x="1155600" y="4549680"/>
            <a:ext cx="73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71680"/>
                <a:tab algn="l" pos="1333440"/>
                <a:tab algn="l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2" name="Line 21"/>
          <p:cNvSpPr/>
          <p:nvPr/>
        </p:nvSpPr>
        <p:spPr>
          <a:xfrm>
            <a:off x="1927080" y="410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3" name="Line 22"/>
          <p:cNvSpPr/>
          <p:nvPr/>
        </p:nvSpPr>
        <p:spPr>
          <a:xfrm>
            <a:off x="2647800" y="4095720"/>
            <a:ext cx="0" cy="47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4" name="Text Box 23"/>
          <p:cNvSpPr/>
          <p:nvPr/>
        </p:nvSpPr>
        <p:spPr>
          <a:xfrm>
            <a:off x="1614960" y="5794200"/>
            <a:ext cx="47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urnaround medio: (4a+3b+2c+d) / 4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Planificación d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6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istema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atch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8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43BF-CC8D-4496-A521-703F98358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495000" y="1233360"/>
            <a:ext cx="84582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Trabajo más corto el próximo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(SJF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0" name="Text Box 4"/>
          <p:cNvSpPr/>
          <p:nvPr/>
        </p:nvSpPr>
        <p:spPr>
          <a:xfrm>
            <a:off x="762120" y="2019240"/>
            <a:ext cx="63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Times New Roman"/>
              </a:rPr>
              <a:t>Contraejempl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1" name="Line 13"/>
          <p:cNvSpPr/>
          <p:nvPr/>
        </p:nvSpPr>
        <p:spPr>
          <a:xfrm>
            <a:off x="873000" y="4032360"/>
            <a:ext cx="67770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2" name="Text Box 14"/>
          <p:cNvSpPr/>
          <p:nvPr/>
        </p:nvSpPr>
        <p:spPr>
          <a:xfrm>
            <a:off x="763200" y="4127400"/>
            <a:ext cx="67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3" name="Line 15"/>
          <p:cNvSpPr/>
          <p:nvPr/>
        </p:nvSpPr>
        <p:spPr>
          <a:xfrm flipH="1">
            <a:off x="934560" y="3625920"/>
            <a:ext cx="972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4" name="Line 16"/>
          <p:cNvSpPr/>
          <p:nvPr/>
        </p:nvSpPr>
        <p:spPr>
          <a:xfrm>
            <a:off x="3635280" y="3616200"/>
            <a:ext cx="972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5" name="Text Box 17"/>
          <p:cNvSpPr/>
          <p:nvPr/>
        </p:nvSpPr>
        <p:spPr>
          <a:xfrm>
            <a:off x="662040" y="293364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(2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(4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6" name="Text Box 18"/>
          <p:cNvSpPr/>
          <p:nvPr/>
        </p:nvSpPr>
        <p:spPr>
          <a:xfrm>
            <a:off x="3345120" y="2649600"/>
            <a:ext cx="6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(1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(1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(1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7" name="Text Box 19"/>
          <p:cNvSpPr/>
          <p:nvPr/>
        </p:nvSpPr>
        <p:spPr>
          <a:xfrm>
            <a:off x="1049400" y="5175360"/>
            <a:ext cx="58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 SJC: A, B, C, D, 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mpo medio de espera: 2,8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 no SJC: B, C, D, E, 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mpo medio de espera: 2,6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Planificación d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7)</a:t>
            </a:r>
            <a:br>
              <a:rPr sz="32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istema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atch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1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90C0-075B-47FD-8EF4-6F72B3614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495000" y="12330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Tiempo restante menor, el siguient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(SRTN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hortest Remaining Time Nex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762120" y="2276640"/>
            <a:ext cx="780228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riante expulsora del SJF.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ando llega un trabajo nuevo, comparar su petición de tiempo con el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que le queda al actual. Seleccionar el menor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avorece a los trabajos nuevos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4" name="Line 12"/>
          <p:cNvSpPr/>
          <p:nvPr/>
        </p:nvSpPr>
        <p:spPr>
          <a:xfrm>
            <a:off x="1111320" y="5479920"/>
            <a:ext cx="677700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1001160" y="5575320"/>
            <a:ext cx="67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6" name="Line 14"/>
          <p:cNvSpPr/>
          <p:nvPr/>
        </p:nvSpPr>
        <p:spPr>
          <a:xfrm flipH="1">
            <a:off x="1173240" y="5073480"/>
            <a:ext cx="936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7" name="Line 15"/>
          <p:cNvSpPr/>
          <p:nvPr/>
        </p:nvSpPr>
        <p:spPr>
          <a:xfrm>
            <a:off x="3873600" y="5064120"/>
            <a:ext cx="936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8" name="Text Box 16"/>
          <p:cNvSpPr/>
          <p:nvPr/>
        </p:nvSpPr>
        <p:spPr>
          <a:xfrm>
            <a:off x="900360" y="438156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(2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(4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9" name="Text Box 17"/>
          <p:cNvSpPr/>
          <p:nvPr/>
        </p:nvSpPr>
        <p:spPr>
          <a:xfrm>
            <a:off x="3583080" y="4097160"/>
            <a:ext cx="6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(1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(1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(1)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0" name="Text Box 18"/>
          <p:cNvSpPr/>
          <p:nvPr/>
        </p:nvSpPr>
        <p:spPr>
          <a:xfrm>
            <a:off x="5065200" y="438480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¿Tiempo medio de espera?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Planificación d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8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istema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atch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9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2005-3FAD-4598-899E-EB16B377A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3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roceso padre crea procesos hijos y los procesos hijos pueden crear sus propios proceso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erarquía de proceso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X llama a esto "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rocess grou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indows no tiene el concepto de jerarquía de proceso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uede operar con grupos de procesos (p. ejem.: enviar una señal)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confundir este grupo con el grupo de rwx rwx rwx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773280" y="1548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Procesos (3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Grupos de proces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4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3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4" name="6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D28C-96E2-4537-9EE4-D9DF737D6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23880" y="1343160"/>
            <a:ext cx="4246560" cy="56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Planificación a tres nivel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Planificación d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9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istema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Batch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7" name="AutoShape 17"/>
          <p:cNvSpPr/>
          <p:nvPr/>
        </p:nvSpPr>
        <p:spPr>
          <a:xfrm>
            <a:off x="6905520" y="4111560"/>
            <a:ext cx="952560" cy="11811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8" name="Rectangle 18"/>
          <p:cNvSpPr/>
          <p:nvPr/>
        </p:nvSpPr>
        <p:spPr>
          <a:xfrm>
            <a:off x="3860640" y="3886200"/>
            <a:ext cx="1549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9" name="Rectangle 19"/>
          <p:cNvSpPr/>
          <p:nvPr/>
        </p:nvSpPr>
        <p:spPr>
          <a:xfrm>
            <a:off x="3860640" y="2451240"/>
            <a:ext cx="15368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0" name="Rectangle 20"/>
          <p:cNvSpPr/>
          <p:nvPr/>
        </p:nvSpPr>
        <p:spPr>
          <a:xfrm>
            <a:off x="1486080" y="4572000"/>
            <a:ext cx="1155600" cy="1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1" name="Oval 21"/>
          <p:cNvSpPr/>
          <p:nvPr/>
        </p:nvSpPr>
        <p:spPr>
          <a:xfrm>
            <a:off x="2070000" y="459756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2" name="Oval 22"/>
          <p:cNvSpPr/>
          <p:nvPr/>
        </p:nvSpPr>
        <p:spPr>
          <a:xfrm>
            <a:off x="2273400" y="45975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3" name="Oval 23"/>
          <p:cNvSpPr/>
          <p:nvPr/>
        </p:nvSpPr>
        <p:spPr>
          <a:xfrm>
            <a:off x="2463840" y="45975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4" name="Oval 24"/>
          <p:cNvSpPr/>
          <p:nvPr/>
        </p:nvSpPr>
        <p:spPr>
          <a:xfrm>
            <a:off x="1019160" y="461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5" name="Oval 25"/>
          <p:cNvSpPr/>
          <p:nvPr/>
        </p:nvSpPr>
        <p:spPr>
          <a:xfrm>
            <a:off x="5041800" y="25909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6" name="Oval 26"/>
          <p:cNvSpPr/>
          <p:nvPr/>
        </p:nvSpPr>
        <p:spPr>
          <a:xfrm>
            <a:off x="4025880" y="4038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7" name="Oval 27"/>
          <p:cNvSpPr/>
          <p:nvPr/>
        </p:nvSpPr>
        <p:spPr>
          <a:xfrm>
            <a:off x="4280040" y="4038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8" name="Oval 28"/>
          <p:cNvSpPr/>
          <p:nvPr/>
        </p:nvSpPr>
        <p:spPr>
          <a:xfrm>
            <a:off x="4533840" y="403056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9" name="Oval 29"/>
          <p:cNvSpPr/>
          <p:nvPr/>
        </p:nvSpPr>
        <p:spPr>
          <a:xfrm>
            <a:off x="4788000" y="40305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0" name="Oval 30"/>
          <p:cNvSpPr/>
          <p:nvPr/>
        </p:nvSpPr>
        <p:spPr>
          <a:xfrm>
            <a:off x="5054760" y="4033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1" name="Text Box 33"/>
          <p:cNvSpPr/>
          <p:nvPr/>
        </p:nvSpPr>
        <p:spPr>
          <a:xfrm>
            <a:off x="3924360" y="4444920"/>
            <a:ext cx="14097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incipa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2" name="Text Box 34"/>
          <p:cNvSpPr/>
          <p:nvPr/>
        </p:nvSpPr>
        <p:spPr>
          <a:xfrm>
            <a:off x="4165560" y="2463840"/>
            <a:ext cx="8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3" name="AutoShape 35"/>
          <p:cNvSpPr/>
          <p:nvPr/>
        </p:nvSpPr>
        <p:spPr>
          <a:xfrm>
            <a:off x="4495680" y="2971800"/>
            <a:ext cx="266760" cy="863640"/>
          </a:xfrm>
          <a:prstGeom prst="upDownArrow">
            <a:avLst>
              <a:gd name="adj1" fmla="val 50000"/>
              <a:gd name="adj2" fmla="val 644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4" name="AutoShape 36"/>
          <p:cNvSpPr/>
          <p:nvPr/>
        </p:nvSpPr>
        <p:spPr>
          <a:xfrm>
            <a:off x="5511960" y="4559400"/>
            <a:ext cx="1257120" cy="203040"/>
          </a:xfrm>
          <a:prstGeom prst="leftRightArrow">
            <a:avLst>
              <a:gd name="adj1" fmla="val 50000"/>
              <a:gd name="adj2" fmla="val 1232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5" name="AutoShape 37"/>
          <p:cNvSpPr/>
          <p:nvPr/>
        </p:nvSpPr>
        <p:spPr>
          <a:xfrm>
            <a:off x="2730600" y="4572000"/>
            <a:ext cx="1130040" cy="216000"/>
          </a:xfrm>
          <a:prstGeom prst="rightArrow">
            <a:avLst>
              <a:gd name="adj1" fmla="val 50000"/>
              <a:gd name="adj2" fmla="val 1307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6" name="Text Box 38"/>
          <p:cNvSpPr/>
          <p:nvPr/>
        </p:nvSpPr>
        <p:spPr>
          <a:xfrm>
            <a:off x="4978440" y="3073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ificador CPU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7" name="Text Box 39"/>
          <p:cNvSpPr/>
          <p:nvPr/>
        </p:nvSpPr>
        <p:spPr>
          <a:xfrm>
            <a:off x="5460840" y="5435640"/>
            <a:ext cx="14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ificador Memoria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8" name="Text Box 40"/>
          <p:cNvSpPr/>
          <p:nvPr/>
        </p:nvSpPr>
        <p:spPr>
          <a:xfrm>
            <a:off x="2349360" y="5232240"/>
            <a:ext cx="14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ificador de admisión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9" name="Line 42"/>
          <p:cNvSpPr/>
          <p:nvPr/>
        </p:nvSpPr>
        <p:spPr>
          <a:xfrm>
            <a:off x="2438280" y="456732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0" name="Line 43"/>
          <p:cNvSpPr/>
          <p:nvPr/>
        </p:nvSpPr>
        <p:spPr>
          <a:xfrm>
            <a:off x="2238480" y="456732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1" name="Line 44"/>
          <p:cNvSpPr/>
          <p:nvPr/>
        </p:nvSpPr>
        <p:spPr>
          <a:xfrm>
            <a:off x="2043000" y="457668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2" name="Line 45"/>
          <p:cNvSpPr/>
          <p:nvPr/>
        </p:nvSpPr>
        <p:spPr>
          <a:xfrm>
            <a:off x="1876320" y="45673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3" name="Line 46"/>
          <p:cNvSpPr/>
          <p:nvPr/>
        </p:nvSpPr>
        <p:spPr>
          <a:xfrm>
            <a:off x="1692360" y="4573440"/>
            <a:ext cx="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4" name="Line 47"/>
          <p:cNvSpPr/>
          <p:nvPr/>
        </p:nvSpPr>
        <p:spPr>
          <a:xfrm flipH="1">
            <a:off x="4723920" y="3362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5" name="Line 48"/>
          <p:cNvSpPr/>
          <p:nvPr/>
        </p:nvSpPr>
        <p:spPr>
          <a:xfrm flipV="1">
            <a:off x="6143760" y="4733640"/>
            <a:ext cx="0" cy="69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6" name="Line 49"/>
          <p:cNvSpPr/>
          <p:nvPr/>
        </p:nvSpPr>
        <p:spPr>
          <a:xfrm flipV="1">
            <a:off x="2981160" y="4762080"/>
            <a:ext cx="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7" name="Text Box 50"/>
          <p:cNvSpPr/>
          <p:nvPr/>
        </p:nvSpPr>
        <p:spPr>
          <a:xfrm>
            <a:off x="6953400" y="4543560"/>
            <a:ext cx="8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isco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8" name="Text Box 51"/>
          <p:cNvSpPr/>
          <p:nvPr/>
        </p:nvSpPr>
        <p:spPr>
          <a:xfrm>
            <a:off x="1428840" y="422928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la de entrada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9" name="Line 52"/>
          <p:cNvSpPr/>
          <p:nvPr/>
        </p:nvSpPr>
        <p:spPr>
          <a:xfrm>
            <a:off x="10954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0" name="Text Box 53"/>
          <p:cNvSpPr/>
          <p:nvPr/>
        </p:nvSpPr>
        <p:spPr>
          <a:xfrm>
            <a:off x="685800" y="3657600"/>
            <a:ext cx="88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Nuevo trabajo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4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2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3" name="6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0EB2-31BC-4D46-90CF-E903BA141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588960" y="920880"/>
            <a:ext cx="8107200" cy="21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und-Robin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Robo de cicl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s los procesos tienen la misma importancia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cada proceso se le asigna un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quantu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rodaja) d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mpo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5" name="Text Box 8"/>
          <p:cNvSpPr/>
          <p:nvPr/>
        </p:nvSpPr>
        <p:spPr>
          <a:xfrm>
            <a:off x="1972080" y="48816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¿Tamaño del quantum?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6" name="Text Box 9"/>
          <p:cNvSpPr/>
          <p:nvPr/>
        </p:nvSpPr>
        <p:spPr>
          <a:xfrm>
            <a:off x="894240" y="5489640"/>
            <a:ext cx="66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demasiado pequeño, poco aprovechamiento CPU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demasiado grande, pobre tiempo de respuesta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Planificación d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10)</a:t>
            </a:r>
            <a:br>
              <a:rPr sz="32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istemas Interactiv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8" name="Rectangle 13"/>
          <p:cNvSpPr/>
          <p:nvPr/>
        </p:nvSpPr>
        <p:spPr>
          <a:xfrm>
            <a:off x="1371600" y="40482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9" name="Rectangle 14"/>
          <p:cNvSpPr/>
          <p:nvPr/>
        </p:nvSpPr>
        <p:spPr>
          <a:xfrm>
            <a:off x="1978200" y="403560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0" name="Rectangle 15"/>
          <p:cNvSpPr/>
          <p:nvPr/>
        </p:nvSpPr>
        <p:spPr>
          <a:xfrm>
            <a:off x="2568600" y="404496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1" name="Rectangle 16"/>
          <p:cNvSpPr/>
          <p:nvPr/>
        </p:nvSpPr>
        <p:spPr>
          <a:xfrm>
            <a:off x="3168720" y="404496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2" name="Rectangle 17"/>
          <p:cNvSpPr/>
          <p:nvPr/>
        </p:nvSpPr>
        <p:spPr>
          <a:xfrm>
            <a:off x="3749760" y="404496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3" name="Rectangle 18"/>
          <p:cNvSpPr/>
          <p:nvPr/>
        </p:nvSpPr>
        <p:spPr>
          <a:xfrm>
            <a:off x="5587920" y="40356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4" name="Rectangle 19"/>
          <p:cNvSpPr/>
          <p:nvPr/>
        </p:nvSpPr>
        <p:spPr>
          <a:xfrm>
            <a:off x="6178680" y="403560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5" name="Rectangle 20"/>
          <p:cNvSpPr/>
          <p:nvPr/>
        </p:nvSpPr>
        <p:spPr>
          <a:xfrm>
            <a:off x="6778800" y="4035600"/>
            <a:ext cx="304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6" name="Rectangle 21"/>
          <p:cNvSpPr/>
          <p:nvPr/>
        </p:nvSpPr>
        <p:spPr>
          <a:xfrm>
            <a:off x="7369200" y="40356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7" name="Rectangle 22"/>
          <p:cNvSpPr/>
          <p:nvPr/>
        </p:nvSpPr>
        <p:spPr>
          <a:xfrm>
            <a:off x="7959600" y="4035600"/>
            <a:ext cx="304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8" name="Line 24"/>
          <p:cNvSpPr/>
          <p:nvPr/>
        </p:nvSpPr>
        <p:spPr>
          <a:xfrm>
            <a:off x="5491080" y="3790800"/>
            <a:ext cx="23328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9" name="Line 25"/>
          <p:cNvSpPr/>
          <p:nvPr/>
        </p:nvSpPr>
        <p:spPr>
          <a:xfrm>
            <a:off x="1276200" y="3795840"/>
            <a:ext cx="24300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Line 26"/>
          <p:cNvSpPr/>
          <p:nvPr/>
        </p:nvSpPr>
        <p:spPr>
          <a:xfrm flipH="1">
            <a:off x="2152440" y="3790800"/>
            <a:ext cx="22860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1" name="Line 27"/>
          <p:cNvSpPr/>
          <p:nvPr/>
        </p:nvSpPr>
        <p:spPr>
          <a:xfrm>
            <a:off x="1671480" y="419112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2" name="Line 28"/>
          <p:cNvSpPr/>
          <p:nvPr/>
        </p:nvSpPr>
        <p:spPr>
          <a:xfrm>
            <a:off x="2292480" y="418320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3" name="Line 29"/>
          <p:cNvSpPr/>
          <p:nvPr/>
        </p:nvSpPr>
        <p:spPr>
          <a:xfrm>
            <a:off x="2884320" y="4175280"/>
            <a:ext cx="2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4" name="Line 30"/>
          <p:cNvSpPr/>
          <p:nvPr/>
        </p:nvSpPr>
        <p:spPr>
          <a:xfrm>
            <a:off x="3479760" y="416556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5" name="Line 31"/>
          <p:cNvSpPr/>
          <p:nvPr/>
        </p:nvSpPr>
        <p:spPr>
          <a:xfrm>
            <a:off x="5899320" y="416088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6" name="Line 32"/>
          <p:cNvSpPr/>
          <p:nvPr/>
        </p:nvSpPr>
        <p:spPr>
          <a:xfrm>
            <a:off x="6486480" y="415764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7" name="Line 33"/>
          <p:cNvSpPr/>
          <p:nvPr/>
        </p:nvSpPr>
        <p:spPr>
          <a:xfrm>
            <a:off x="7086600" y="416232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8" name="Line 34"/>
          <p:cNvSpPr/>
          <p:nvPr/>
        </p:nvSpPr>
        <p:spPr>
          <a:xfrm>
            <a:off x="7686720" y="415764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9" name="Text Box 35"/>
          <p:cNvSpPr/>
          <p:nvPr/>
        </p:nvSpPr>
        <p:spPr>
          <a:xfrm>
            <a:off x="5519880" y="396720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0" name="Text Box 36"/>
          <p:cNvSpPr/>
          <p:nvPr/>
        </p:nvSpPr>
        <p:spPr>
          <a:xfrm>
            <a:off x="6111720" y="3968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1" name="Text Box 37"/>
          <p:cNvSpPr/>
          <p:nvPr/>
        </p:nvSpPr>
        <p:spPr>
          <a:xfrm>
            <a:off x="6702480" y="3987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2" name="Text Box 38"/>
          <p:cNvSpPr/>
          <p:nvPr/>
        </p:nvSpPr>
        <p:spPr>
          <a:xfrm>
            <a:off x="7302600" y="39924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3" name="Text Box 39"/>
          <p:cNvSpPr/>
          <p:nvPr/>
        </p:nvSpPr>
        <p:spPr>
          <a:xfrm>
            <a:off x="7893000" y="3987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4" name="Text Box 40"/>
          <p:cNvSpPr/>
          <p:nvPr/>
        </p:nvSpPr>
        <p:spPr>
          <a:xfrm>
            <a:off x="3692520" y="40021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5" name="Text Box 41"/>
          <p:cNvSpPr/>
          <p:nvPr/>
        </p:nvSpPr>
        <p:spPr>
          <a:xfrm>
            <a:off x="3102120" y="400212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6" name="Text Box 42"/>
          <p:cNvSpPr/>
          <p:nvPr/>
        </p:nvSpPr>
        <p:spPr>
          <a:xfrm>
            <a:off x="2502000" y="39974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7" name="Text Box 43"/>
          <p:cNvSpPr/>
          <p:nvPr/>
        </p:nvSpPr>
        <p:spPr>
          <a:xfrm>
            <a:off x="1920960" y="39924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8" name="Text Box 44"/>
          <p:cNvSpPr/>
          <p:nvPr/>
        </p:nvSpPr>
        <p:spPr>
          <a:xfrm>
            <a:off x="1306440" y="40021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9" name="Text Box 45"/>
          <p:cNvSpPr/>
          <p:nvPr/>
        </p:nvSpPr>
        <p:spPr>
          <a:xfrm>
            <a:off x="4600440" y="340056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actua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0" name="Text Box 46"/>
          <p:cNvSpPr/>
          <p:nvPr/>
        </p:nvSpPr>
        <p:spPr>
          <a:xfrm>
            <a:off x="163440" y="337824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actua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1" name="Text Box 47"/>
          <p:cNvSpPr/>
          <p:nvPr/>
        </p:nvSpPr>
        <p:spPr>
          <a:xfrm>
            <a:off x="1893960" y="3403440"/>
            <a:ext cx="23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siguiente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4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3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4" name="6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15F2-9FC3-4196-A48B-1FBB874D9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614520" y="1199880"/>
            <a:ext cx="81072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Por prioridad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teractivo (expulsor?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proceso tiene asignada una priorida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leccionar el proceso más prioritario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sible inanición de los procesos menos prioritarios. Solución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crementar la prioridad del proceso ejecutándose cada t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ound-robin entre procesos de la misma prio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signación de prioridades: estática o dinámic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ática: por pago, por clases de 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námic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/f,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/* f = fracción consumida del último quantum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s de prioridad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Planificación d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11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istemas Interactiv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4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8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9" name="6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3B5A-E855-4733-8562-471C9D64B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614520" y="1437840"/>
            <a:ext cx="8107200" cy="5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Por prioridades (clases de prioridad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Planificación d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12)</a:t>
            </a:r>
            <a:br>
              <a:rPr sz="32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istemas Interactiv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822" name="Group 44"/>
          <p:cNvGrpSpPr/>
          <p:nvPr/>
        </p:nvGrpSpPr>
        <p:grpSpPr>
          <a:xfrm>
            <a:off x="1133640" y="2171880"/>
            <a:ext cx="6927840" cy="3231000"/>
            <a:chOff x="1133640" y="2171880"/>
            <a:chExt cx="6927840" cy="3231000"/>
          </a:xfrm>
        </p:grpSpPr>
        <p:sp>
          <p:nvSpPr>
            <p:cNvPr id="823" name="Rectangle 9"/>
            <p:cNvSpPr/>
            <p:nvPr/>
          </p:nvSpPr>
          <p:spPr>
            <a:xfrm>
              <a:off x="1343160" y="3029040"/>
              <a:ext cx="1523880" cy="222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24" name="Line 10"/>
            <p:cNvSpPr/>
            <p:nvPr/>
          </p:nvSpPr>
          <p:spPr>
            <a:xfrm>
              <a:off x="1343160" y="3600720"/>
              <a:ext cx="153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25" name="Line 11"/>
            <p:cNvSpPr/>
            <p:nvPr/>
          </p:nvSpPr>
          <p:spPr>
            <a:xfrm>
              <a:off x="1354320" y="4150080"/>
              <a:ext cx="149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26" name="Line 12"/>
            <p:cNvSpPr/>
            <p:nvPr/>
          </p:nvSpPr>
          <p:spPr>
            <a:xfrm>
              <a:off x="1351080" y="4718160"/>
              <a:ext cx="15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27" name="Rectangle 13"/>
            <p:cNvSpPr/>
            <p:nvPr/>
          </p:nvSpPr>
          <p:spPr>
            <a:xfrm>
              <a:off x="3292560" y="3102120"/>
              <a:ext cx="4334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28" name="Rectangle 14"/>
            <p:cNvSpPr/>
            <p:nvPr/>
          </p:nvSpPr>
          <p:spPr>
            <a:xfrm>
              <a:off x="4111560" y="3102120"/>
              <a:ext cx="4334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29" name="Rectangle 15"/>
            <p:cNvSpPr/>
            <p:nvPr/>
          </p:nvSpPr>
          <p:spPr>
            <a:xfrm>
              <a:off x="4950000" y="3102120"/>
              <a:ext cx="43308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30" name="Line 16"/>
            <p:cNvSpPr/>
            <p:nvPr/>
          </p:nvSpPr>
          <p:spPr>
            <a:xfrm>
              <a:off x="3732120" y="3318120"/>
              <a:ext cx="3826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31" name="Line 17"/>
            <p:cNvSpPr/>
            <p:nvPr/>
          </p:nvSpPr>
          <p:spPr>
            <a:xfrm>
              <a:off x="4541760" y="3327480"/>
              <a:ext cx="406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32" name="Line 21"/>
            <p:cNvSpPr/>
            <p:nvPr/>
          </p:nvSpPr>
          <p:spPr>
            <a:xfrm>
              <a:off x="2871720" y="3314880"/>
              <a:ext cx="4208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33" name="Rectangle 22"/>
            <p:cNvSpPr/>
            <p:nvPr/>
          </p:nvSpPr>
          <p:spPr>
            <a:xfrm>
              <a:off x="3292560" y="3654720"/>
              <a:ext cx="4334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34" name="Rectangle 23"/>
            <p:cNvSpPr/>
            <p:nvPr/>
          </p:nvSpPr>
          <p:spPr>
            <a:xfrm>
              <a:off x="4111560" y="3654720"/>
              <a:ext cx="4334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35" name="Rectangle 24"/>
            <p:cNvSpPr/>
            <p:nvPr/>
          </p:nvSpPr>
          <p:spPr>
            <a:xfrm>
              <a:off x="4950000" y="3654720"/>
              <a:ext cx="43308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36" name="Line 25"/>
            <p:cNvSpPr/>
            <p:nvPr/>
          </p:nvSpPr>
          <p:spPr>
            <a:xfrm>
              <a:off x="3732120" y="3870360"/>
              <a:ext cx="3826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37" name="Line 26"/>
            <p:cNvSpPr/>
            <p:nvPr/>
          </p:nvSpPr>
          <p:spPr>
            <a:xfrm>
              <a:off x="4541760" y="3880080"/>
              <a:ext cx="406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38" name="Line 27"/>
            <p:cNvSpPr/>
            <p:nvPr/>
          </p:nvSpPr>
          <p:spPr>
            <a:xfrm>
              <a:off x="2871720" y="3867480"/>
              <a:ext cx="4208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39" name="Rectangle 28"/>
            <p:cNvSpPr/>
            <p:nvPr/>
          </p:nvSpPr>
          <p:spPr>
            <a:xfrm>
              <a:off x="3286080" y="4213440"/>
              <a:ext cx="43344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40" name="Rectangle 30"/>
            <p:cNvSpPr/>
            <p:nvPr/>
          </p:nvSpPr>
          <p:spPr>
            <a:xfrm>
              <a:off x="5794560" y="3641760"/>
              <a:ext cx="43308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5386320" y="3867480"/>
              <a:ext cx="406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42" name="Line 33"/>
            <p:cNvSpPr/>
            <p:nvPr/>
          </p:nvSpPr>
          <p:spPr>
            <a:xfrm>
              <a:off x="2865600" y="4426200"/>
              <a:ext cx="4204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43" name="Text Box 34"/>
            <p:cNvSpPr/>
            <p:nvPr/>
          </p:nvSpPr>
          <p:spPr>
            <a:xfrm>
              <a:off x="1355760" y="3073680"/>
              <a:ext cx="14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ioridad 4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44" name="Text Box 35"/>
            <p:cNvSpPr/>
            <p:nvPr/>
          </p:nvSpPr>
          <p:spPr>
            <a:xfrm>
              <a:off x="1355760" y="4800960"/>
              <a:ext cx="14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ioridad 1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45" name="Text Box 36"/>
            <p:cNvSpPr/>
            <p:nvPr/>
          </p:nvSpPr>
          <p:spPr>
            <a:xfrm>
              <a:off x="1355760" y="4235760"/>
              <a:ext cx="14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ioridad 2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46" name="Text Box 37"/>
            <p:cNvSpPr/>
            <p:nvPr/>
          </p:nvSpPr>
          <p:spPr>
            <a:xfrm>
              <a:off x="1355760" y="3677040"/>
              <a:ext cx="14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ioridad 3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47" name="Text Box 38"/>
            <p:cNvSpPr/>
            <p:nvPr/>
          </p:nvSpPr>
          <p:spPr>
            <a:xfrm>
              <a:off x="5603760" y="2648160"/>
              <a:ext cx="240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Máxima prioridad)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48" name="Text Box 39"/>
            <p:cNvSpPr/>
            <p:nvPr/>
          </p:nvSpPr>
          <p:spPr>
            <a:xfrm>
              <a:off x="5661000" y="5004000"/>
              <a:ext cx="240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(Mínima prioridad)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49" name="Text Box 40"/>
            <p:cNvSpPr/>
            <p:nvPr/>
          </p:nvSpPr>
          <p:spPr>
            <a:xfrm>
              <a:off x="1133640" y="2200320"/>
              <a:ext cx="196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Cabeceras de colas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50" name="AutoShape 41"/>
            <p:cNvSpPr/>
            <p:nvPr/>
          </p:nvSpPr>
          <p:spPr>
            <a:xfrm rot="5400000">
              <a:off x="4221000" y="1614600"/>
              <a:ext cx="250920" cy="2295360"/>
            </a:xfrm>
            <a:custGeom>
              <a:avLst/>
              <a:gdLst>
                <a:gd name="textAreaLeft" fmla="*/ 160200 w 250920"/>
                <a:gd name="textAreaRight" fmla="*/ 251280 w 250920"/>
                <a:gd name="textAreaTop" fmla="*/ 59760 h 2295360"/>
                <a:gd name="textAreaBottom" fmla="*/ 2235600 h 22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51" name="Text Box 42"/>
            <p:cNvSpPr/>
            <p:nvPr/>
          </p:nvSpPr>
          <p:spPr>
            <a:xfrm>
              <a:off x="3152880" y="2171880"/>
              <a:ext cx="321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ocesos listos para ejecutar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4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3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4" name="6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E260-356A-4242-A1C7-39A08FEAA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614520" y="1199880"/>
            <a:ext cx="81072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Múltiples cola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TTS: clases de prioridad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ª clase: 1 quan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ª clase: 2 quan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ª clase: 4 quan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un proceso agota si quantum, se pasa a la siguiente clase 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jemplo: un proceso necesita 100 qua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, 2, 4, 8, 16, 32, 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7 intercamb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ando un proceso se convierte en interactivo: a la clase más 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XDS 940: 4 clases de prioridad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rminal, I/O, short quantum, long quan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Planificación d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13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istemas Interactiv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4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8" name="5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9" name="6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3061-CD1E-402C-9463-984ED087F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614520" y="1447920"/>
            <a:ext cx="810720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hortest Process Next (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Envejecimiento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ariante del SJF para interactivo, expulsor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JF genera el mínimo tiempo medio de esper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Se puede aplicar SJF a sistemas interactivo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oritmo del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envejecimien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aging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imación actual basada en comportamiento pa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imer comando: T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gundo comando: 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imación del siguiente: aT0 + (1-a)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a=1/2, sumar el nuevo valor a la estimación actual y dividir por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Planificación d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14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istemas Interactiv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4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1596-5FC4-4F8F-8804-5F05F1EAA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Planificación d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15)</a:t>
            </a:r>
            <a:br>
              <a:rPr sz="32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lanificación de thread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6" name="Rectangle 6"/>
          <p:cNvSpPr/>
          <p:nvPr/>
        </p:nvSpPr>
        <p:spPr>
          <a:xfrm>
            <a:off x="1193760" y="5013360"/>
            <a:ext cx="7772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Posible planificación de threads en espacio de usuario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Quantum por proceso de 50-msec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Cada threads ejecuta 5 msec/CPU burs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7" name="Text Box 49"/>
          <p:cNvSpPr/>
          <p:nvPr/>
        </p:nvSpPr>
        <p:spPr>
          <a:xfrm>
            <a:off x="3025800" y="4678200"/>
            <a:ext cx="21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osible: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8" name="Text Box 48"/>
          <p:cNvSpPr/>
          <p:nvPr/>
        </p:nvSpPr>
        <p:spPr>
          <a:xfrm>
            <a:off x="3282840" y="3892680"/>
            <a:ext cx="30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1. El Kernel selecciona un proceso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9" name="Rectangle 50"/>
          <p:cNvSpPr/>
          <p:nvPr/>
        </p:nvSpPr>
        <p:spPr>
          <a:xfrm>
            <a:off x="3247920" y="1800360"/>
            <a:ext cx="331488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0" name="Line 51"/>
          <p:cNvSpPr/>
          <p:nvPr/>
        </p:nvSpPr>
        <p:spPr>
          <a:xfrm>
            <a:off x="3247920" y="3749760"/>
            <a:ext cx="331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1" name="Text Box 52"/>
          <p:cNvSpPr/>
          <p:nvPr/>
        </p:nvSpPr>
        <p:spPr>
          <a:xfrm>
            <a:off x="3206880" y="1044720"/>
            <a:ext cx="12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2" name="Text Box 55"/>
          <p:cNvSpPr/>
          <p:nvPr/>
        </p:nvSpPr>
        <p:spPr>
          <a:xfrm>
            <a:off x="1486080" y="2009880"/>
            <a:ext cx="133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2. El run-time system selecciona un thread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3" name="Line 57"/>
          <p:cNvSpPr/>
          <p:nvPr/>
        </p:nvSpPr>
        <p:spPr>
          <a:xfrm>
            <a:off x="3781440" y="1428840"/>
            <a:ext cx="21924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4" name="Line 58"/>
          <p:cNvSpPr/>
          <p:nvPr/>
        </p:nvSpPr>
        <p:spPr>
          <a:xfrm flipH="1">
            <a:off x="5654520" y="1434960"/>
            <a:ext cx="2880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5" name="Oval 59"/>
          <p:cNvSpPr/>
          <p:nvPr/>
        </p:nvSpPr>
        <p:spPr>
          <a:xfrm>
            <a:off x="3330720" y="2092320"/>
            <a:ext cx="1466640" cy="146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876" name="Group 95"/>
          <p:cNvGrpSpPr/>
          <p:nvPr/>
        </p:nvGrpSpPr>
        <p:grpSpPr>
          <a:xfrm>
            <a:off x="3774960" y="2340000"/>
            <a:ext cx="588960" cy="704520"/>
            <a:chOff x="3774960" y="2340000"/>
            <a:chExt cx="588960" cy="704520"/>
          </a:xfrm>
        </p:grpSpPr>
        <p:sp>
          <p:nvSpPr>
            <p:cNvPr id="877" name="Freeform 60"/>
            <p:cNvSpPr/>
            <p:nvPr/>
          </p:nvSpPr>
          <p:spPr>
            <a:xfrm>
              <a:off x="3774960" y="2340000"/>
              <a:ext cx="109440" cy="677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78" name="Freeform 61"/>
            <p:cNvSpPr/>
            <p:nvPr/>
          </p:nvSpPr>
          <p:spPr>
            <a:xfrm>
              <a:off x="4019400" y="2367360"/>
              <a:ext cx="109440" cy="677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79" name="Freeform 62"/>
            <p:cNvSpPr/>
            <p:nvPr/>
          </p:nvSpPr>
          <p:spPr>
            <a:xfrm>
              <a:off x="4254120" y="2357280"/>
              <a:ext cx="109800" cy="677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880" name="Group 87"/>
          <p:cNvGrpSpPr/>
          <p:nvPr/>
        </p:nvGrpSpPr>
        <p:grpSpPr>
          <a:xfrm>
            <a:off x="5229360" y="2289240"/>
            <a:ext cx="909000" cy="704520"/>
            <a:chOff x="5229360" y="2289240"/>
            <a:chExt cx="909000" cy="704520"/>
          </a:xfrm>
        </p:grpSpPr>
        <p:sp>
          <p:nvSpPr>
            <p:cNvPr id="881" name="Freeform 63"/>
            <p:cNvSpPr/>
            <p:nvPr/>
          </p:nvSpPr>
          <p:spPr>
            <a:xfrm>
              <a:off x="5229360" y="2289240"/>
              <a:ext cx="109080" cy="677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82" name="Freeform 64"/>
            <p:cNvSpPr/>
            <p:nvPr/>
          </p:nvSpPr>
          <p:spPr>
            <a:xfrm>
              <a:off x="5473440" y="2316960"/>
              <a:ext cx="109080" cy="6768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83" name="Freeform 65"/>
            <p:cNvSpPr/>
            <p:nvPr/>
          </p:nvSpPr>
          <p:spPr>
            <a:xfrm>
              <a:off x="5708520" y="2307240"/>
              <a:ext cx="109080" cy="677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84" name="Freeform 66"/>
            <p:cNvSpPr/>
            <p:nvPr/>
          </p:nvSpPr>
          <p:spPr>
            <a:xfrm>
              <a:off x="6028920" y="2311200"/>
              <a:ext cx="109440" cy="677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885" name="Oval 67"/>
          <p:cNvSpPr/>
          <p:nvPr/>
        </p:nvSpPr>
        <p:spPr>
          <a:xfrm>
            <a:off x="4956120" y="2079720"/>
            <a:ext cx="1467000" cy="1466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6" name="Text Box 78"/>
          <p:cNvSpPr/>
          <p:nvPr/>
        </p:nvSpPr>
        <p:spPr>
          <a:xfrm>
            <a:off x="3008160" y="44658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osible: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7" name="Text Box 79"/>
          <p:cNvSpPr/>
          <p:nvPr/>
        </p:nvSpPr>
        <p:spPr>
          <a:xfrm>
            <a:off x="5013360" y="1079640"/>
            <a:ext cx="12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8" name="Text Box 80"/>
          <p:cNvSpPr/>
          <p:nvPr/>
        </p:nvSpPr>
        <p:spPr>
          <a:xfrm>
            <a:off x="3724200" y="211464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9" name="Text Box 81"/>
          <p:cNvSpPr/>
          <p:nvPr/>
        </p:nvSpPr>
        <p:spPr>
          <a:xfrm>
            <a:off x="4226040" y="2092320"/>
            <a:ext cx="3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0" name="Text Box 83"/>
          <p:cNvSpPr/>
          <p:nvPr/>
        </p:nvSpPr>
        <p:spPr>
          <a:xfrm>
            <a:off x="4309920" y="446256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1, A2, A3, A1, A2, A3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1" name="Text Box 84"/>
          <p:cNvSpPr/>
          <p:nvPr/>
        </p:nvSpPr>
        <p:spPr>
          <a:xfrm>
            <a:off x="4278240" y="476424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A1, B1, A2, B2, A3, B3</a:t>
            </a:r>
            <a:endParaRPr b="0" lang="en-US" sz="1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2" name="Line 85"/>
          <p:cNvSpPr/>
          <p:nvPr/>
        </p:nvSpPr>
        <p:spPr>
          <a:xfrm>
            <a:off x="3476520" y="3952800"/>
            <a:ext cx="0" cy="276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cxnSp>
        <p:nvCxnSpPr>
          <p:cNvPr id="893" name="AutoShape 86"/>
          <p:cNvCxnSpPr>
            <a:endCxn id="875" idx="3"/>
          </p:cNvCxnSpPr>
          <p:nvPr/>
        </p:nvCxnSpPr>
        <p:spPr>
          <a:xfrm flipH="1" flipV="1" rot="5400000">
            <a:off x="3182400" y="3609360"/>
            <a:ext cx="627840" cy="97560"/>
          </a:xfrm>
          <a:prstGeom prst="curvedConnector5">
            <a:avLst>
              <a:gd name="adj1" fmla="val 32874"/>
              <a:gd name="adj2" fmla="val 50000"/>
              <a:gd name="adj3" fmla="val 32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4" name="Rectangle 90"/>
          <p:cNvSpPr/>
          <p:nvPr/>
        </p:nvSpPr>
        <p:spPr>
          <a:xfrm>
            <a:off x="5162400" y="3029040"/>
            <a:ext cx="1067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5" name="Rectangle 92"/>
          <p:cNvSpPr/>
          <p:nvPr/>
        </p:nvSpPr>
        <p:spPr>
          <a:xfrm>
            <a:off x="5931000" y="3063960"/>
            <a:ext cx="252360" cy="15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6" name="Line 93"/>
          <p:cNvSpPr/>
          <p:nvPr/>
        </p:nvSpPr>
        <p:spPr>
          <a:xfrm>
            <a:off x="5932440" y="3138480"/>
            <a:ext cx="24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7" name="Line 94"/>
          <p:cNvSpPr/>
          <p:nvPr/>
        </p:nvSpPr>
        <p:spPr>
          <a:xfrm>
            <a:off x="5934240" y="3179880"/>
            <a:ext cx="24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898" name="Group 96"/>
          <p:cNvGrpSpPr/>
          <p:nvPr/>
        </p:nvGrpSpPr>
        <p:grpSpPr>
          <a:xfrm>
            <a:off x="3521160" y="3054240"/>
            <a:ext cx="1066680" cy="228600"/>
            <a:chOff x="3521160" y="3054240"/>
            <a:chExt cx="1066680" cy="228600"/>
          </a:xfrm>
        </p:grpSpPr>
        <p:sp>
          <p:nvSpPr>
            <p:cNvPr id="899" name="Rectangle 97"/>
            <p:cNvSpPr/>
            <p:nvPr/>
          </p:nvSpPr>
          <p:spPr>
            <a:xfrm>
              <a:off x="3521160" y="3054240"/>
              <a:ext cx="10666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grpSp>
          <p:nvGrpSpPr>
            <p:cNvPr id="900" name="Group 98"/>
            <p:cNvGrpSpPr/>
            <p:nvPr/>
          </p:nvGrpSpPr>
          <p:grpSpPr>
            <a:xfrm>
              <a:off x="4289400" y="3089160"/>
              <a:ext cx="252360" cy="154080"/>
              <a:chOff x="4289400" y="3089160"/>
              <a:chExt cx="252360" cy="154080"/>
            </a:xfrm>
          </p:grpSpPr>
          <p:sp>
            <p:nvSpPr>
              <p:cNvPr id="901" name="Rectangle 99"/>
              <p:cNvSpPr/>
              <p:nvPr/>
            </p:nvSpPr>
            <p:spPr>
              <a:xfrm>
                <a:off x="4289400" y="3089160"/>
                <a:ext cx="252360" cy="154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902" name="Line 100"/>
              <p:cNvSpPr/>
              <p:nvPr/>
            </p:nvSpPr>
            <p:spPr>
              <a:xfrm>
                <a:off x="4290840" y="3130200"/>
                <a:ext cx="24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903" name="Line 101"/>
              <p:cNvSpPr/>
              <p:nvPr/>
            </p:nvSpPr>
            <p:spPr>
              <a:xfrm>
                <a:off x="4291560" y="3181320"/>
                <a:ext cx="24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4" name="Line 102"/>
          <p:cNvSpPr/>
          <p:nvPr/>
        </p:nvSpPr>
        <p:spPr>
          <a:xfrm>
            <a:off x="5934240" y="3097080"/>
            <a:ext cx="24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5" name="Line 103"/>
          <p:cNvSpPr/>
          <p:nvPr/>
        </p:nvSpPr>
        <p:spPr>
          <a:xfrm>
            <a:off x="3733920" y="3143160"/>
            <a:ext cx="0" cy="66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cxnSp>
        <p:nvCxnSpPr>
          <p:cNvPr id="906" name="AutoShape 105"/>
          <p:cNvCxnSpPr>
            <a:stCxn id="899" idx="1"/>
            <a:endCxn id="877" idx="6"/>
          </p:cNvCxnSpPr>
          <p:nvPr/>
        </p:nvCxnSpPr>
        <p:spPr>
          <a:xfrm flipH="1" rot="10800000">
            <a:off x="3520080" y="2437560"/>
            <a:ext cx="261000" cy="731160"/>
          </a:xfrm>
          <a:prstGeom prst="curvedConnector5">
            <a:avLst>
              <a:gd name="adj1" fmla="val -143232"/>
              <a:gd name="adj2" fmla="val 58669"/>
              <a:gd name="adj3" fmla="val -1432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7" name="Text Box 106"/>
          <p:cNvSpPr/>
          <p:nvPr/>
        </p:nvSpPr>
        <p:spPr>
          <a:xfrm>
            <a:off x="3959280" y="209232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8" name="Line 107"/>
          <p:cNvSpPr/>
          <p:nvPr/>
        </p:nvSpPr>
        <p:spPr>
          <a:xfrm>
            <a:off x="2724120" y="2486160"/>
            <a:ext cx="44784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9" name="Line 108"/>
          <p:cNvSpPr/>
          <p:nvPr/>
        </p:nvSpPr>
        <p:spPr>
          <a:xfrm>
            <a:off x="2952720" y="1409760"/>
            <a:ext cx="89532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0" name="Text Box 109"/>
          <p:cNvSpPr/>
          <p:nvPr/>
        </p:nvSpPr>
        <p:spPr>
          <a:xfrm>
            <a:off x="714240" y="92376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rden en que se ejecutan los threads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3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7D4A-A266-45E1-B41F-AD0AC0C63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Times New Roman"/>
              </a:rPr>
              <a:t>Planificación de proceso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(16)</a:t>
            </a:r>
            <a:br>
              <a:rPr sz="32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Planificación de thread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1371600" y="5159520"/>
            <a:ext cx="77724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Posible planificación de threads en espacio de kernel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Quantum por proceso de 50-msec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Cada threads ejecuta 5 msec/CPU burs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916" name="Group 60"/>
          <p:cNvGrpSpPr/>
          <p:nvPr/>
        </p:nvGrpSpPr>
        <p:grpSpPr>
          <a:xfrm>
            <a:off x="1685880" y="996840"/>
            <a:ext cx="5200560" cy="4127760"/>
            <a:chOff x="1685880" y="996840"/>
            <a:chExt cx="5200560" cy="4127760"/>
          </a:xfrm>
        </p:grpSpPr>
        <p:sp>
          <p:nvSpPr>
            <p:cNvPr id="917" name="Text Box 9"/>
            <p:cNvSpPr/>
            <p:nvPr/>
          </p:nvSpPr>
          <p:spPr>
            <a:xfrm>
              <a:off x="3216240" y="3844800"/>
              <a:ext cx="290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1. El Kernel selecciona un thread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18" name="Text Box 10"/>
            <p:cNvSpPr/>
            <p:nvPr/>
          </p:nvSpPr>
          <p:spPr>
            <a:xfrm>
              <a:off x="2797200" y="4725720"/>
              <a:ext cx="218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ambién posible: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3057480" y="1752480"/>
              <a:ext cx="3314880" cy="262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20" name="Line 12"/>
            <p:cNvSpPr/>
            <p:nvPr/>
          </p:nvSpPr>
          <p:spPr>
            <a:xfrm>
              <a:off x="3057480" y="3701880"/>
              <a:ext cx="331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21" name="Text Box 13"/>
            <p:cNvSpPr/>
            <p:nvPr/>
          </p:nvSpPr>
          <p:spPr>
            <a:xfrm>
              <a:off x="3016080" y="996840"/>
              <a:ext cx="126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oceso A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22" name="AutoShape 15"/>
            <p:cNvSpPr/>
            <p:nvPr/>
          </p:nvSpPr>
          <p:spPr>
            <a:xfrm>
              <a:off x="2768400" y="1752480"/>
              <a:ext cx="88920" cy="185724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48240 h 1857240"/>
                <a:gd name="textAreaBottom" fmla="*/ 1809000 h 185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23" name="AutoShape 16"/>
            <p:cNvSpPr/>
            <p:nvPr/>
          </p:nvSpPr>
          <p:spPr>
            <a:xfrm>
              <a:off x="2749680" y="3705120"/>
              <a:ext cx="88920" cy="58104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15120 h 581040"/>
                <a:gd name="textAreaBottom" fmla="*/ 565920 h 58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24" name="Text Box 17"/>
            <p:cNvSpPr/>
            <p:nvPr/>
          </p:nvSpPr>
          <p:spPr>
            <a:xfrm>
              <a:off x="1809720" y="2333520"/>
              <a:ext cx="923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Espacio de Usuario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25" name="Text Box 18"/>
            <p:cNvSpPr/>
            <p:nvPr/>
          </p:nvSpPr>
          <p:spPr>
            <a:xfrm>
              <a:off x="1685880" y="3638520"/>
              <a:ext cx="99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Espacio del Kernel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26" name="Line 19"/>
            <p:cNvSpPr/>
            <p:nvPr/>
          </p:nvSpPr>
          <p:spPr>
            <a:xfrm>
              <a:off x="3591000" y="1380960"/>
              <a:ext cx="21888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27" name="Line 20"/>
            <p:cNvSpPr/>
            <p:nvPr/>
          </p:nvSpPr>
          <p:spPr>
            <a:xfrm flipH="1">
              <a:off x="5464080" y="1387440"/>
              <a:ext cx="28800" cy="58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28" name="Oval 23"/>
            <p:cNvSpPr/>
            <p:nvPr/>
          </p:nvSpPr>
          <p:spPr>
            <a:xfrm>
              <a:off x="3139920" y="2044440"/>
              <a:ext cx="1467000" cy="1467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29" name="Freeform 24"/>
            <p:cNvSpPr/>
            <p:nvPr/>
          </p:nvSpPr>
          <p:spPr>
            <a:xfrm>
              <a:off x="3584520" y="2330280"/>
              <a:ext cx="109440" cy="860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30" name="Freeform 25"/>
            <p:cNvSpPr/>
            <p:nvPr/>
          </p:nvSpPr>
          <p:spPr>
            <a:xfrm>
              <a:off x="3828960" y="2365200"/>
              <a:ext cx="109440" cy="860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31" name="Freeform 26"/>
            <p:cNvSpPr/>
            <p:nvPr/>
          </p:nvSpPr>
          <p:spPr>
            <a:xfrm>
              <a:off x="4064040" y="2352600"/>
              <a:ext cx="109440" cy="860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32" name="Freeform 28"/>
            <p:cNvSpPr/>
            <p:nvPr/>
          </p:nvSpPr>
          <p:spPr>
            <a:xfrm>
              <a:off x="5057640" y="2393640"/>
              <a:ext cx="109800" cy="7779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33" name="Freeform 29"/>
            <p:cNvSpPr/>
            <p:nvPr/>
          </p:nvSpPr>
          <p:spPr>
            <a:xfrm>
              <a:off x="5302080" y="2425320"/>
              <a:ext cx="109800" cy="7779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34" name="Freeform 30"/>
            <p:cNvSpPr/>
            <p:nvPr/>
          </p:nvSpPr>
          <p:spPr>
            <a:xfrm>
              <a:off x="5537160" y="2414520"/>
              <a:ext cx="109440" cy="777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35" name="Freeform 31"/>
            <p:cNvSpPr/>
            <p:nvPr/>
          </p:nvSpPr>
          <p:spPr>
            <a:xfrm>
              <a:off x="5857920" y="2419200"/>
              <a:ext cx="109440" cy="7779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36" name="Oval 32"/>
            <p:cNvSpPr/>
            <p:nvPr/>
          </p:nvSpPr>
          <p:spPr>
            <a:xfrm>
              <a:off x="4765680" y="2031840"/>
              <a:ext cx="1466640" cy="146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37" name="Rectangle 37"/>
            <p:cNvSpPr/>
            <p:nvPr/>
          </p:nvSpPr>
          <p:spPr>
            <a:xfrm>
              <a:off x="6086520" y="3790800"/>
              <a:ext cx="218880" cy="39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38" name="Line 38"/>
            <p:cNvSpPr/>
            <p:nvPr/>
          </p:nvSpPr>
          <p:spPr>
            <a:xfrm>
              <a:off x="6086520" y="3838320"/>
              <a:ext cx="2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39" name="Line 39"/>
            <p:cNvSpPr/>
            <p:nvPr/>
          </p:nvSpPr>
          <p:spPr>
            <a:xfrm>
              <a:off x="6087960" y="388296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40" name="Line 40"/>
            <p:cNvSpPr/>
            <p:nvPr/>
          </p:nvSpPr>
          <p:spPr>
            <a:xfrm>
              <a:off x="6092640" y="392580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41" name="Line 41"/>
            <p:cNvSpPr/>
            <p:nvPr/>
          </p:nvSpPr>
          <p:spPr>
            <a:xfrm>
              <a:off x="6092640" y="396864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42" name="Line 42"/>
            <p:cNvSpPr/>
            <p:nvPr/>
          </p:nvSpPr>
          <p:spPr>
            <a:xfrm>
              <a:off x="6087960" y="400680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43" name="Line 43"/>
            <p:cNvSpPr/>
            <p:nvPr/>
          </p:nvSpPr>
          <p:spPr>
            <a:xfrm>
              <a:off x="6092640" y="404964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44" name="Line 44"/>
            <p:cNvSpPr/>
            <p:nvPr/>
          </p:nvSpPr>
          <p:spPr>
            <a:xfrm>
              <a:off x="6087960" y="408276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45" name="Line 45"/>
            <p:cNvSpPr/>
            <p:nvPr/>
          </p:nvSpPr>
          <p:spPr>
            <a:xfrm>
              <a:off x="6087960" y="412092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46" name="Line 46"/>
            <p:cNvSpPr/>
            <p:nvPr/>
          </p:nvSpPr>
          <p:spPr>
            <a:xfrm>
              <a:off x="6092640" y="4154400"/>
              <a:ext cx="2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47" name="Text Box 47"/>
            <p:cNvSpPr/>
            <p:nvPr/>
          </p:nvSpPr>
          <p:spPr>
            <a:xfrm>
              <a:off x="2817720" y="4417920"/>
              <a:ext cx="121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osible: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48" name="Text Box 49"/>
            <p:cNvSpPr/>
            <p:nvPr/>
          </p:nvSpPr>
          <p:spPr>
            <a:xfrm>
              <a:off x="4822920" y="1031760"/>
              <a:ext cx="126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oceso B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49" name="Text Box 50"/>
            <p:cNvSpPr/>
            <p:nvPr/>
          </p:nvSpPr>
          <p:spPr>
            <a:xfrm>
              <a:off x="3476520" y="199044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50" name="Text Box 51"/>
            <p:cNvSpPr/>
            <p:nvPr/>
          </p:nvSpPr>
          <p:spPr>
            <a:xfrm>
              <a:off x="3940200" y="200628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51" name="Text Box 52"/>
            <p:cNvSpPr/>
            <p:nvPr/>
          </p:nvSpPr>
          <p:spPr>
            <a:xfrm>
              <a:off x="4968720" y="202536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52" name="Text Box 53"/>
            <p:cNvSpPr/>
            <p:nvPr/>
          </p:nvSpPr>
          <p:spPr>
            <a:xfrm>
              <a:off x="4529160" y="440496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A1, A2, A3, A1, A2, A3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53" name="Text Box 54"/>
            <p:cNvSpPr/>
            <p:nvPr/>
          </p:nvSpPr>
          <p:spPr>
            <a:xfrm>
              <a:off x="4516560" y="475452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A1, B1, A2, B2, A3, B3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54" name="Line 57"/>
            <p:cNvSpPr/>
            <p:nvPr/>
          </p:nvSpPr>
          <p:spPr>
            <a:xfrm>
              <a:off x="3286080" y="3904920"/>
              <a:ext cx="0" cy="27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cxnSp>
          <p:nvCxnSpPr>
            <p:cNvPr id="955" name="AutoShape 58"/>
            <p:cNvCxnSpPr/>
            <p:nvPr/>
          </p:nvCxnSpPr>
          <p:spPr>
            <a:xfrm flipH="1" flipV="1" rot="5400000">
              <a:off x="2902320" y="3264120"/>
              <a:ext cx="1015200" cy="305280"/>
            </a:xfrm>
            <a:prstGeom prst="curvedConnector5">
              <a:avLst>
                <a:gd name="adj1" fmla="val 103405"/>
                <a:gd name="adj2" fmla="val 49940"/>
                <a:gd name="adj3" fmla="val 10340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F088-2B1E-450B-89C6-10F406DC5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3280" y="1584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Procesos (4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Grupos de proces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1127160" y="230184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- ini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lee /etc/ttys (número de terminales).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- ini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crea un proceso hijo por cada terminal.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Los hijos ejecutan (exec) el programa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bi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logi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Esperan a que un usuario entre al sistema.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- bin/logi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jecuta la shell correspondiente (en /etc/passwd)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- La shell crea un hijo por cada comando.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9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E97C-6A37-47F4-AF9F-02272C815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Procesos (5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Estados de proces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06400" y="4238280"/>
            <a:ext cx="77724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Posibles estados de un proceso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tán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qu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a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2"/>
          <p:cNvSpPr/>
          <p:nvPr/>
        </p:nvSpPr>
        <p:spPr>
          <a:xfrm>
            <a:off x="4800600" y="2184480"/>
            <a:ext cx="4343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53" name="Group 35"/>
          <p:cNvGrpSpPr/>
          <p:nvPr/>
        </p:nvGrpSpPr>
        <p:grpSpPr>
          <a:xfrm>
            <a:off x="723960" y="1276200"/>
            <a:ext cx="8420040" cy="2729880"/>
            <a:chOff x="723960" y="1276200"/>
            <a:chExt cx="8420040" cy="2729880"/>
          </a:xfrm>
        </p:grpSpPr>
        <p:sp>
          <p:nvSpPr>
            <p:cNvPr id="154" name="Line 6"/>
            <p:cNvSpPr/>
            <p:nvPr/>
          </p:nvSpPr>
          <p:spPr>
            <a:xfrm flipH="1">
              <a:off x="2819520" y="1676520"/>
              <a:ext cx="901440" cy="1028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5" name="Line 7"/>
            <p:cNvSpPr/>
            <p:nvPr/>
          </p:nvSpPr>
          <p:spPr>
            <a:xfrm flipH="1">
              <a:off x="3454560" y="1701720"/>
              <a:ext cx="279360" cy="736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6" name="Text Box 8"/>
            <p:cNvSpPr/>
            <p:nvPr/>
          </p:nvSpPr>
          <p:spPr>
            <a:xfrm>
              <a:off x="3700080" y="1276200"/>
              <a:ext cx="215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ff0000"/>
                  </a:solidFill>
                  <a:latin typeface="Times New Roman"/>
                </a:rPr>
                <a:t>planificador</a:t>
              </a:r>
              <a:endParaRPr b="0" lang="en-US" sz="32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7" name="Text Box 11"/>
            <p:cNvSpPr/>
            <p:nvPr/>
          </p:nvSpPr>
          <p:spPr>
            <a:xfrm>
              <a:off x="5090400" y="354636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fork()</a:t>
              </a:r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8" name="Line 12"/>
            <p:cNvSpPr/>
            <p:nvPr/>
          </p:nvSpPr>
          <p:spPr>
            <a:xfrm flipH="1" flipV="1">
              <a:off x="4394160" y="3416400"/>
              <a:ext cx="698400" cy="3427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9" name="Line 13"/>
            <p:cNvSpPr/>
            <p:nvPr/>
          </p:nvSpPr>
          <p:spPr>
            <a:xfrm flipH="1">
              <a:off x="812520" y="1879560"/>
              <a:ext cx="10414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0" name="Text Box 14"/>
            <p:cNvSpPr/>
            <p:nvPr/>
          </p:nvSpPr>
          <p:spPr>
            <a:xfrm>
              <a:off x="987480" y="134928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xit</a:t>
              </a:r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1" name="Oval 15"/>
            <p:cNvSpPr/>
            <p:nvPr/>
          </p:nvSpPr>
          <p:spPr>
            <a:xfrm>
              <a:off x="1879560" y="1562040"/>
              <a:ext cx="1422360" cy="749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2" name="Oval 16"/>
            <p:cNvSpPr/>
            <p:nvPr/>
          </p:nvSpPr>
          <p:spPr>
            <a:xfrm>
              <a:off x="3035160" y="2806560"/>
              <a:ext cx="1422720" cy="749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3" name="Oval 17"/>
            <p:cNvSpPr/>
            <p:nvPr/>
          </p:nvSpPr>
          <p:spPr>
            <a:xfrm>
              <a:off x="723960" y="2806560"/>
              <a:ext cx="1422360" cy="749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cxnSp>
          <p:nvCxnSpPr>
            <p:cNvPr id="164" name="AutoShape 18"/>
            <p:cNvCxnSpPr>
              <a:stCxn id="161" idx="3"/>
              <a:endCxn id="163" idx="0"/>
            </p:cNvCxnSpPr>
            <p:nvPr/>
          </p:nvCxnSpPr>
          <p:spPr>
            <a:xfrm rot="5400000">
              <a:off x="1458000" y="2177640"/>
              <a:ext cx="605520" cy="653400"/>
            </a:xfrm>
            <a:prstGeom prst="curvedConnector5">
              <a:avLst>
                <a:gd name="adj1" fmla="val 46698"/>
                <a:gd name="adj2" fmla="val 50000"/>
                <a:gd name="adj3" fmla="val 46698"/>
              </a:avLst>
            </a:prstGeom>
            <a:ln w="1584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65" name="AutoShape 19"/>
            <p:cNvCxnSpPr>
              <a:stCxn id="163" idx="5"/>
              <a:endCxn id="162" idx="3"/>
            </p:cNvCxnSpPr>
            <p:nvPr/>
          </p:nvCxnSpPr>
          <p:spPr>
            <a:xfrm flipH="1" rot="16200000">
              <a:off x="2589120" y="2794680"/>
              <a:ext cx="2160" cy="1305720"/>
            </a:xfrm>
            <a:prstGeom prst="curvedConnector5">
              <a:avLst>
                <a:gd name="adj1" fmla="val 21300000"/>
                <a:gd name="adj2" fmla="val 50000"/>
                <a:gd name="adj3" fmla="val 21300000"/>
              </a:avLst>
            </a:prstGeom>
            <a:ln w="0">
              <a:noFill/>
            </a:ln>
          </p:spPr>
        </p:cxnSp>
        <p:cxnSp>
          <p:nvCxnSpPr>
            <p:cNvPr id="166" name="AutoShape 20"/>
            <p:cNvCxnSpPr>
              <a:stCxn id="163" idx="5"/>
              <a:endCxn id="162" idx="3"/>
            </p:cNvCxnSpPr>
            <p:nvPr/>
          </p:nvCxnSpPr>
          <p:spPr>
            <a:xfrm flipH="1" rot="16200000">
              <a:off x="2589120" y="2794680"/>
              <a:ext cx="2160" cy="1305720"/>
            </a:xfrm>
            <a:prstGeom prst="curvedConnector5">
              <a:avLst>
                <a:gd name="adj1" fmla="val 10900000"/>
                <a:gd name="adj2" fmla="val 50000"/>
                <a:gd name="adj3" fmla="val 10900000"/>
              </a:avLst>
            </a:prstGeom>
            <a:ln w="1584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67" name="AutoShape 21"/>
            <p:cNvCxnSpPr>
              <a:stCxn id="162" idx="1"/>
              <a:endCxn id="161" idx="4"/>
            </p:cNvCxnSpPr>
            <p:nvPr/>
          </p:nvCxnSpPr>
          <p:spPr>
            <a:xfrm flipV="1" rot="16200000">
              <a:off x="2614320" y="2287080"/>
              <a:ext cx="605520" cy="653040"/>
            </a:xfrm>
            <a:prstGeom prst="curvedConnector5">
              <a:avLst>
                <a:gd name="adj1" fmla="val 31469"/>
                <a:gd name="adj2" fmla="val 49972"/>
                <a:gd name="adj3" fmla="val 31469"/>
              </a:avLst>
            </a:prstGeom>
            <a:ln w="15840">
              <a:solidFill>
                <a:srgbClr val="000000"/>
              </a:solidFill>
              <a:miter/>
              <a:tailEnd len="lg" type="triangle" w="sm"/>
            </a:ln>
          </p:spPr>
        </p:cxnSp>
        <p:cxnSp>
          <p:nvCxnSpPr>
            <p:cNvPr id="168" name="AutoShape 22"/>
            <p:cNvCxnSpPr>
              <a:stCxn id="161" idx="5"/>
              <a:endCxn id="162" idx="0"/>
            </p:cNvCxnSpPr>
            <p:nvPr/>
          </p:nvCxnSpPr>
          <p:spPr>
            <a:xfrm flipH="1" rot="16200000">
              <a:off x="3117960" y="2177640"/>
              <a:ext cx="605520" cy="653040"/>
            </a:xfrm>
            <a:prstGeom prst="curvedConnector5">
              <a:avLst>
                <a:gd name="adj1" fmla="val 34086"/>
                <a:gd name="adj2" fmla="val 49972"/>
                <a:gd name="adj3" fmla="val 34086"/>
              </a:avLst>
            </a:prstGeom>
            <a:ln w="15840">
              <a:solidFill>
                <a:srgbClr val="000000"/>
              </a:solidFill>
              <a:miter/>
              <a:tailEnd len="lg" type="triangle" w="sm"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800280" y="300996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Bloqueado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0" name="Text Box 24"/>
            <p:cNvSpPr/>
            <p:nvPr/>
          </p:nvSpPr>
          <p:spPr>
            <a:xfrm>
              <a:off x="1892160" y="1714680"/>
              <a:ext cx="135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Ejecutando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1" name="Text Box 25"/>
            <p:cNvSpPr/>
            <p:nvPr/>
          </p:nvSpPr>
          <p:spPr>
            <a:xfrm>
              <a:off x="3086280" y="2984400"/>
              <a:ext cx="132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eparado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2" name="Text Box 26"/>
            <p:cNvSpPr/>
            <p:nvPr/>
          </p:nvSpPr>
          <p:spPr>
            <a:xfrm>
              <a:off x="1486080" y="2133720"/>
              <a:ext cx="41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3" name="Text Box 27"/>
            <p:cNvSpPr/>
            <p:nvPr/>
          </p:nvSpPr>
          <p:spPr>
            <a:xfrm>
              <a:off x="3454560" y="2197080"/>
              <a:ext cx="5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4" name="Text Box 28"/>
            <p:cNvSpPr/>
            <p:nvPr/>
          </p:nvSpPr>
          <p:spPr>
            <a:xfrm>
              <a:off x="2476440" y="25653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5" name="Text Box 29"/>
            <p:cNvSpPr/>
            <p:nvPr/>
          </p:nvSpPr>
          <p:spPr>
            <a:xfrm>
              <a:off x="2400480" y="3238560"/>
              <a:ext cx="39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6" name="Text Box 30"/>
            <p:cNvSpPr/>
            <p:nvPr/>
          </p:nvSpPr>
          <p:spPr>
            <a:xfrm>
              <a:off x="4788000" y="1765440"/>
              <a:ext cx="43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1. El proceso se bloquea esperando datos de entrada.</a:t>
              </a:r>
              <a:endParaRPr b="0" lang="en-US" sz="1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7" name="Text Box 31"/>
            <p:cNvSpPr/>
            <p:nvPr/>
          </p:nvSpPr>
          <p:spPr>
            <a:xfrm>
              <a:off x="4660920" y="2324160"/>
              <a:ext cx="42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2. El planificador selecciona otro proceso.</a:t>
              </a:r>
              <a:endParaRPr b="0" lang="en-US" sz="1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8" name="Text Box 33"/>
            <p:cNvSpPr/>
            <p:nvPr/>
          </p:nvSpPr>
          <p:spPr>
            <a:xfrm>
              <a:off x="4660920" y="2654280"/>
              <a:ext cx="425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3. El planificador selecciona este proceso.</a:t>
              </a:r>
              <a:endParaRPr b="0" lang="en-US" sz="1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9" name="Text Box 34"/>
            <p:cNvSpPr/>
            <p:nvPr/>
          </p:nvSpPr>
          <p:spPr>
            <a:xfrm>
              <a:off x="4775040" y="3009960"/>
              <a:ext cx="40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4. Los datos de entrada están disponibles.</a:t>
              </a:r>
              <a:endParaRPr b="0" lang="en-US" sz="1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EBDD-4E3F-4088-9F46-7EA44654C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74720" y="5369040"/>
            <a:ext cx="777240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ampos en una entrada a la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tabla de proceso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760320" y="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Procesos (6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mplementación de proces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152280" y="1155600"/>
            <a:ext cx="8826480" cy="43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" name="Line 26"/>
          <p:cNvSpPr/>
          <p:nvPr/>
        </p:nvSpPr>
        <p:spPr>
          <a:xfrm>
            <a:off x="3683160" y="1155600"/>
            <a:ext cx="0" cy="430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Line 27"/>
          <p:cNvSpPr/>
          <p:nvPr/>
        </p:nvSpPr>
        <p:spPr>
          <a:xfrm>
            <a:off x="6413400" y="1168560"/>
            <a:ext cx="0" cy="427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88" name="Group 55"/>
          <p:cNvGrpSpPr/>
          <p:nvPr/>
        </p:nvGrpSpPr>
        <p:grpSpPr>
          <a:xfrm>
            <a:off x="65160" y="1155600"/>
            <a:ext cx="3643200" cy="4132800"/>
            <a:chOff x="65160" y="1155600"/>
            <a:chExt cx="3643200" cy="4132800"/>
          </a:xfrm>
        </p:grpSpPr>
        <p:sp>
          <p:nvSpPr>
            <p:cNvPr id="189" name="Text Box 29"/>
            <p:cNvSpPr/>
            <p:nvPr/>
          </p:nvSpPr>
          <p:spPr>
            <a:xfrm>
              <a:off x="104760" y="1155600"/>
              <a:ext cx="235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Gestión de procesos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0" name="Text Box 30"/>
            <p:cNvSpPr/>
            <p:nvPr/>
          </p:nvSpPr>
          <p:spPr>
            <a:xfrm>
              <a:off x="165240" y="1409760"/>
              <a:ext cx="11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egistros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1" name="Text Box 31"/>
            <p:cNvSpPr/>
            <p:nvPr/>
          </p:nvSpPr>
          <p:spPr>
            <a:xfrm>
              <a:off x="79200" y="1650960"/>
              <a:ext cx="26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Contador de programa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2" name="Text Box 32"/>
            <p:cNvSpPr/>
            <p:nvPr/>
          </p:nvSpPr>
          <p:spPr>
            <a:xfrm>
              <a:off x="65160" y="1917720"/>
              <a:ext cx="359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alabra de estado del programa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3" name="Text Box 33"/>
            <p:cNvSpPr/>
            <p:nvPr/>
          </p:nvSpPr>
          <p:spPr>
            <a:xfrm>
              <a:off x="189000" y="2171880"/>
              <a:ext cx="174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untero de pila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4" name="Text Box 34"/>
            <p:cNvSpPr/>
            <p:nvPr/>
          </p:nvSpPr>
          <p:spPr>
            <a:xfrm>
              <a:off x="165240" y="2451240"/>
              <a:ext cx="217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Estado del proceso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5" name="Text Box 35"/>
            <p:cNvSpPr/>
            <p:nvPr/>
          </p:nvSpPr>
          <p:spPr>
            <a:xfrm>
              <a:off x="165240" y="2692440"/>
              <a:ext cx="12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ioridad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6" name="Text Box 36"/>
            <p:cNvSpPr/>
            <p:nvPr/>
          </p:nvSpPr>
          <p:spPr>
            <a:xfrm>
              <a:off x="190440" y="2933640"/>
              <a:ext cx="303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arámetros de planificación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7" name="Text Box 37"/>
            <p:cNvSpPr/>
            <p:nvPr/>
          </p:nvSpPr>
          <p:spPr>
            <a:xfrm>
              <a:off x="190440" y="3174840"/>
              <a:ext cx="242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Identificar de proceso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8" name="Text Box 38"/>
            <p:cNvSpPr/>
            <p:nvPr/>
          </p:nvSpPr>
          <p:spPr>
            <a:xfrm>
              <a:off x="190440" y="3429000"/>
              <a:ext cx="163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oceso padre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9" name="Text Box 39"/>
            <p:cNvSpPr/>
            <p:nvPr/>
          </p:nvSpPr>
          <p:spPr>
            <a:xfrm>
              <a:off x="155520" y="3935520"/>
              <a:ext cx="10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Señales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0" name="Text Box 40"/>
            <p:cNvSpPr/>
            <p:nvPr/>
          </p:nvSpPr>
          <p:spPr>
            <a:xfrm>
              <a:off x="177840" y="4178160"/>
              <a:ext cx="334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iempo de inicio del programa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1" name="Text Box 41"/>
            <p:cNvSpPr/>
            <p:nvPr/>
          </p:nvSpPr>
          <p:spPr>
            <a:xfrm>
              <a:off x="76320" y="4406760"/>
              <a:ext cx="322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iempo de CPU consumido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2" name="Text Box 42"/>
            <p:cNvSpPr/>
            <p:nvPr/>
          </p:nvSpPr>
          <p:spPr>
            <a:xfrm>
              <a:off x="114120" y="4635360"/>
              <a:ext cx="317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iempo de CPU de los hijos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3" name="Text Box 43"/>
            <p:cNvSpPr/>
            <p:nvPr/>
          </p:nvSpPr>
          <p:spPr>
            <a:xfrm>
              <a:off x="101520" y="4889520"/>
              <a:ext cx="36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iempo para la siguiente alarma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4" name="Text Box 44"/>
            <p:cNvSpPr/>
            <p:nvPr/>
          </p:nvSpPr>
          <p:spPr>
            <a:xfrm>
              <a:off x="139680" y="3683160"/>
              <a:ext cx="214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Grupo del proceso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05" name="Text Box 45"/>
          <p:cNvSpPr/>
          <p:nvPr/>
        </p:nvSpPr>
        <p:spPr>
          <a:xfrm>
            <a:off x="3819240" y="117000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Gestión de Memoria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06" name="Group 54"/>
          <p:cNvGrpSpPr/>
          <p:nvPr/>
        </p:nvGrpSpPr>
        <p:grpSpPr>
          <a:xfrm>
            <a:off x="6375240" y="1193760"/>
            <a:ext cx="2718000" cy="1821600"/>
            <a:chOff x="6375240" y="1193760"/>
            <a:chExt cx="2718000" cy="1821600"/>
          </a:xfrm>
        </p:grpSpPr>
        <p:sp>
          <p:nvSpPr>
            <p:cNvPr id="207" name="Text Box 46"/>
            <p:cNvSpPr/>
            <p:nvPr/>
          </p:nvSpPr>
          <p:spPr>
            <a:xfrm>
              <a:off x="6426000" y="1193760"/>
              <a:ext cx="234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Gestión de Ficheros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8" name="Text Box 47"/>
            <p:cNvSpPr/>
            <p:nvPr/>
          </p:nvSpPr>
          <p:spPr>
            <a:xfrm>
              <a:off x="6400800" y="1498680"/>
              <a:ext cx="16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Directorio raíz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9" name="Text Box 48"/>
            <p:cNvSpPr/>
            <p:nvPr/>
          </p:nvSpPr>
          <p:spPr>
            <a:xfrm>
              <a:off x="6400800" y="1752480"/>
              <a:ext cx="233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Directorio de trabajo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10" name="Text Box 49"/>
            <p:cNvSpPr/>
            <p:nvPr/>
          </p:nvSpPr>
          <p:spPr>
            <a:xfrm>
              <a:off x="6375240" y="2006640"/>
              <a:ext cx="271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Descriptores de ficheros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UID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GID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11" name="Text Box 50"/>
          <p:cNvSpPr/>
          <p:nvPr/>
        </p:nvSpPr>
        <p:spPr>
          <a:xfrm>
            <a:off x="3835440" y="1562040"/>
            <a:ext cx="3708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untero al segmento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 código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2" name="Text Box 51"/>
          <p:cNvSpPr/>
          <p:nvPr/>
        </p:nvSpPr>
        <p:spPr>
          <a:xfrm>
            <a:off x="3835440" y="2158920"/>
            <a:ext cx="3708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untero al segmento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 datos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3" name="Text Box 52"/>
          <p:cNvSpPr/>
          <p:nvPr/>
        </p:nvSpPr>
        <p:spPr>
          <a:xfrm>
            <a:off x="3848040" y="2781360"/>
            <a:ext cx="37083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untero al segmento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 pila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2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6" name="4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AB62-DCAA-403F-8033-30D7B895A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1068480" y="4564080"/>
            <a:ext cx="72118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squeleto de lo que hace el SO cuando llega una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interrupción.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8" name="Rectangle 21"/>
          <p:cNvSpPr/>
          <p:nvPr/>
        </p:nvSpPr>
        <p:spPr>
          <a:xfrm>
            <a:off x="773280" y="0"/>
            <a:ext cx="7772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Procesos (7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Implementación de procesos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9" name="Rectangle 26"/>
          <p:cNvSpPr/>
          <p:nvPr/>
        </p:nvSpPr>
        <p:spPr>
          <a:xfrm>
            <a:off x="600120" y="1409760"/>
            <a:ext cx="7953480" cy="29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619200" y="1428840"/>
            <a:ext cx="64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1. El hardware apila el contador de programa, etc.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609480" y="1714680"/>
            <a:ext cx="793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El hardware carga el nuevo contador de programa desde el vector de interrupción.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2" name="Text Box 29"/>
          <p:cNvSpPr/>
          <p:nvPr/>
        </p:nvSpPr>
        <p:spPr>
          <a:xfrm>
            <a:off x="609480" y="2276640"/>
            <a:ext cx="66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Un procedimiento en ensamblador guarda los registros.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3" name="Text Box 30"/>
          <p:cNvSpPr/>
          <p:nvPr/>
        </p:nvSpPr>
        <p:spPr>
          <a:xfrm>
            <a:off x="609480" y="2552760"/>
            <a:ext cx="66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Un procedimiento en ensamblador establece una nueva pila.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4" name="Text Box 31"/>
          <p:cNvSpPr/>
          <p:nvPr/>
        </p:nvSpPr>
        <p:spPr>
          <a:xfrm>
            <a:off x="609480" y="2809800"/>
            <a:ext cx="794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Se ejecuta un servicio de interrupción en C (normalmente lee y guarda en un buffer la entrada).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5" name="Text Box 32"/>
          <p:cNvSpPr/>
          <p:nvPr/>
        </p:nvSpPr>
        <p:spPr>
          <a:xfrm>
            <a:off x="600120" y="3352680"/>
            <a:ext cx="79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El planificador elige qué proceso se va a ejecutar a continuación.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6" name="Text Box 33"/>
          <p:cNvSpPr/>
          <p:nvPr/>
        </p:nvSpPr>
        <p:spPr>
          <a:xfrm>
            <a:off x="609480" y="3648240"/>
            <a:ext cx="79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Un procedimiento en C devuelve el control al código en ensamblador.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7" name="Text Box 34"/>
          <p:cNvSpPr/>
          <p:nvPr/>
        </p:nvSpPr>
        <p:spPr>
          <a:xfrm>
            <a:off x="609480" y="3905280"/>
            <a:ext cx="78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8. El procedimiento en ensamblador inicia el nuevo proceso actual.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fecha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I.A.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stemas Operativos I @ (ITIS)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0" name="5 Marcador de número de diapositiva"/>
          <p:cNvSpPr/>
          <p:nvPr/>
        </p:nvSpPr>
        <p:spPr>
          <a:xfrm>
            <a:off x="8559720" y="64897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F816-CFAB-4D47-B234-08E9EC499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328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reads (1)</a:t>
            </a:r>
            <a:br>
              <a:rPr sz="3600"/>
            </a:b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El modelo de thread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3" name="Rectangle 66"/>
          <p:cNvSpPr/>
          <p:nvPr/>
        </p:nvSpPr>
        <p:spPr>
          <a:xfrm>
            <a:off x="685800" y="1355760"/>
            <a:ext cx="7772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(a)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Tres procesos cada uno con un thread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(b) Un proceso con tres threads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34" name="Group 109"/>
          <p:cNvGrpSpPr/>
          <p:nvPr/>
        </p:nvGrpSpPr>
        <p:grpSpPr>
          <a:xfrm>
            <a:off x="123840" y="2454120"/>
            <a:ext cx="8486640" cy="3198960"/>
            <a:chOff x="123840" y="2454120"/>
            <a:chExt cx="8486640" cy="3198960"/>
          </a:xfrm>
        </p:grpSpPr>
        <p:grpSp>
          <p:nvGrpSpPr>
            <p:cNvPr id="235" name="Group 73"/>
            <p:cNvGrpSpPr/>
            <p:nvPr/>
          </p:nvGrpSpPr>
          <p:grpSpPr>
            <a:xfrm>
              <a:off x="5286240" y="2990880"/>
              <a:ext cx="3324240" cy="2523960"/>
              <a:chOff x="5286240" y="2990880"/>
              <a:chExt cx="3324240" cy="2523960"/>
            </a:xfrm>
          </p:grpSpPr>
          <p:sp>
            <p:nvSpPr>
              <p:cNvPr id="236" name="Rectangle 71"/>
              <p:cNvSpPr/>
              <p:nvPr/>
            </p:nvSpPr>
            <p:spPr>
              <a:xfrm>
                <a:off x="5286240" y="2990880"/>
                <a:ext cx="3324240" cy="2523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237" name="Line 72"/>
              <p:cNvSpPr/>
              <p:nvPr/>
            </p:nvSpPr>
            <p:spPr>
              <a:xfrm>
                <a:off x="5286240" y="4933800"/>
                <a:ext cx="33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Oval 74"/>
            <p:cNvSpPr/>
            <p:nvPr/>
          </p:nvSpPr>
          <p:spPr>
            <a:xfrm>
              <a:off x="6562800" y="3562200"/>
              <a:ext cx="733320" cy="733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39" name="Freeform 75"/>
            <p:cNvSpPr/>
            <p:nvPr/>
          </p:nvSpPr>
          <p:spPr>
            <a:xfrm>
              <a:off x="6750000" y="3686040"/>
              <a:ext cx="60480" cy="476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0" name="Freeform 76"/>
            <p:cNvSpPr/>
            <p:nvPr/>
          </p:nvSpPr>
          <p:spPr>
            <a:xfrm>
              <a:off x="6899400" y="3683160"/>
              <a:ext cx="60120" cy="4759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1" name="Freeform 77"/>
            <p:cNvSpPr/>
            <p:nvPr/>
          </p:nvSpPr>
          <p:spPr>
            <a:xfrm>
              <a:off x="7039080" y="3699000"/>
              <a:ext cx="60120" cy="476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2" name="Freeform 78"/>
            <p:cNvSpPr/>
            <p:nvPr/>
          </p:nvSpPr>
          <p:spPr>
            <a:xfrm>
              <a:off x="1955880" y="3673440"/>
              <a:ext cx="60120" cy="476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3" name="Freeform 79"/>
            <p:cNvSpPr/>
            <p:nvPr/>
          </p:nvSpPr>
          <p:spPr>
            <a:xfrm>
              <a:off x="3019320" y="3699000"/>
              <a:ext cx="60480" cy="476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4" name="Freeform 80"/>
            <p:cNvSpPr/>
            <p:nvPr/>
          </p:nvSpPr>
          <p:spPr>
            <a:xfrm>
              <a:off x="4073400" y="3676680"/>
              <a:ext cx="60480" cy="476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5" name="Line 81"/>
            <p:cNvSpPr/>
            <p:nvPr/>
          </p:nvSpPr>
          <p:spPr>
            <a:xfrm flipV="1">
              <a:off x="6753240" y="420984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6" name="Line 82"/>
            <p:cNvSpPr/>
            <p:nvPr/>
          </p:nvSpPr>
          <p:spPr>
            <a:xfrm flipV="1">
              <a:off x="6921360" y="420660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7" name="Line 83"/>
            <p:cNvSpPr/>
            <p:nvPr/>
          </p:nvSpPr>
          <p:spPr>
            <a:xfrm flipV="1">
              <a:off x="7051680" y="422244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8" name="Line 84"/>
            <p:cNvSpPr/>
            <p:nvPr/>
          </p:nvSpPr>
          <p:spPr>
            <a:xfrm>
              <a:off x="6931080" y="2816280"/>
              <a:ext cx="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9" name="Text Box 85"/>
            <p:cNvSpPr/>
            <p:nvPr/>
          </p:nvSpPr>
          <p:spPr>
            <a:xfrm>
              <a:off x="6419880" y="249552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oceso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50" name="Text Box 86"/>
            <p:cNvSpPr/>
            <p:nvPr/>
          </p:nvSpPr>
          <p:spPr>
            <a:xfrm>
              <a:off x="6343560" y="4505400"/>
              <a:ext cx="113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hread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51" name="Text Box 87"/>
            <p:cNvSpPr/>
            <p:nvPr/>
          </p:nvSpPr>
          <p:spPr>
            <a:xfrm>
              <a:off x="6496200" y="5105520"/>
              <a:ext cx="89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52" name="Text Box 88"/>
            <p:cNvSpPr/>
            <p:nvPr/>
          </p:nvSpPr>
          <p:spPr>
            <a:xfrm>
              <a:off x="2587680" y="5073480"/>
              <a:ext cx="89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53" name="Text Box 89"/>
            <p:cNvSpPr/>
            <p:nvPr/>
          </p:nvSpPr>
          <p:spPr>
            <a:xfrm>
              <a:off x="1949400" y="4521240"/>
              <a:ext cx="113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Thread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3730680" y="3568680"/>
              <a:ext cx="733320" cy="733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2682720" y="3568680"/>
              <a:ext cx="733680" cy="733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1625760" y="3568680"/>
              <a:ext cx="733320" cy="733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grpSp>
          <p:nvGrpSpPr>
            <p:cNvPr id="257" name="Group 95"/>
            <p:cNvGrpSpPr/>
            <p:nvPr/>
          </p:nvGrpSpPr>
          <p:grpSpPr>
            <a:xfrm>
              <a:off x="1390680" y="2990880"/>
              <a:ext cx="3324240" cy="2533680"/>
              <a:chOff x="1390680" y="2990880"/>
              <a:chExt cx="3324240" cy="2533680"/>
            </a:xfrm>
          </p:grpSpPr>
          <p:sp>
            <p:nvSpPr>
              <p:cNvPr id="258" name="Rectangle 93"/>
              <p:cNvSpPr/>
              <p:nvPr/>
            </p:nvSpPr>
            <p:spPr>
              <a:xfrm>
                <a:off x="1390680" y="2990880"/>
                <a:ext cx="3314520" cy="253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259" name="Line 94"/>
              <p:cNvSpPr/>
              <p:nvPr/>
            </p:nvSpPr>
            <p:spPr>
              <a:xfrm>
                <a:off x="1390680" y="4943520"/>
                <a:ext cx="33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Text Box 96"/>
            <p:cNvSpPr/>
            <p:nvPr/>
          </p:nvSpPr>
          <p:spPr>
            <a:xfrm>
              <a:off x="1015920" y="2454120"/>
              <a:ext cx="119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oceso 1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61" name="Text Box 97"/>
            <p:cNvSpPr/>
            <p:nvPr/>
          </p:nvSpPr>
          <p:spPr>
            <a:xfrm>
              <a:off x="2273400" y="2473200"/>
              <a:ext cx="12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oceso  2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62" name="Text Box 98"/>
            <p:cNvSpPr/>
            <p:nvPr/>
          </p:nvSpPr>
          <p:spPr>
            <a:xfrm>
              <a:off x="3483000" y="24638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Proceso 3</a:t>
              </a: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63" name="AutoShape 99"/>
            <p:cNvSpPr/>
            <p:nvPr/>
          </p:nvSpPr>
          <p:spPr>
            <a:xfrm>
              <a:off x="1101600" y="3000240"/>
              <a:ext cx="88920" cy="185760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48240 h 1857600"/>
                <a:gd name="textAreaBottom" fmla="*/ 180936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64" name="AutoShape 100"/>
            <p:cNvSpPr/>
            <p:nvPr/>
          </p:nvSpPr>
          <p:spPr>
            <a:xfrm>
              <a:off x="1082520" y="4952880"/>
              <a:ext cx="88920" cy="58104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15120 h 581040"/>
                <a:gd name="textAreaBottom" fmla="*/ 565920 h 58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65" name="Text Box 101"/>
            <p:cNvSpPr/>
            <p:nvPr/>
          </p:nvSpPr>
          <p:spPr>
            <a:xfrm>
              <a:off x="142920" y="3581280"/>
              <a:ext cx="923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Espacio de Usuario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66" name="Text Box 102"/>
            <p:cNvSpPr/>
            <p:nvPr/>
          </p:nvSpPr>
          <p:spPr>
            <a:xfrm>
              <a:off x="123840" y="4829040"/>
              <a:ext cx="99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Espacio del Kernel</a:t>
              </a:r>
              <a:endParaRPr b="0" lang="en-US" sz="1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67" name="Line 103"/>
            <p:cNvSpPr/>
            <p:nvPr/>
          </p:nvSpPr>
          <p:spPr>
            <a:xfrm>
              <a:off x="1619280" y="2867040"/>
              <a:ext cx="18108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68" name="Line 104"/>
            <p:cNvSpPr/>
            <p:nvPr/>
          </p:nvSpPr>
          <p:spPr>
            <a:xfrm>
              <a:off x="2997360" y="2806560"/>
              <a:ext cx="56880" cy="7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69" name="Line 105"/>
            <p:cNvSpPr/>
            <p:nvPr/>
          </p:nvSpPr>
          <p:spPr>
            <a:xfrm>
              <a:off x="4073400" y="2816280"/>
              <a:ext cx="3816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0" name="Line 106"/>
            <p:cNvSpPr/>
            <p:nvPr/>
          </p:nvSpPr>
          <p:spPr>
            <a:xfrm flipV="1">
              <a:off x="3044880" y="4187880"/>
              <a:ext cx="1000080" cy="4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1" name="Line 107"/>
            <p:cNvSpPr/>
            <p:nvPr/>
          </p:nvSpPr>
          <p:spPr>
            <a:xfrm flipV="1">
              <a:off x="2797200" y="4225680"/>
              <a:ext cx="20016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2" name="Line 108"/>
            <p:cNvSpPr/>
            <p:nvPr/>
          </p:nvSpPr>
          <p:spPr>
            <a:xfrm flipH="1" flipV="1">
              <a:off x="2025720" y="4168440"/>
              <a:ext cx="218880" cy="3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3:54:09Z</dcterms:created>
  <dc:creator>Steve  Armstrong</dc:creator>
  <dc:description/>
  <dc:language>en-US</dc:language>
  <cp:lastModifiedBy>Jorge E. Pérez</cp:lastModifiedBy>
  <cp:lastPrinted>2001-01-13T17:10:04Z</cp:lastPrinted>
  <dcterms:modified xsi:type="dcterms:W3CDTF">2008-05-19T10:50:54Z</dcterms:modified>
  <cp:revision>325</cp:revision>
  <dc:subject/>
  <dc:title>Processes and Threads</dc:title>
</cp:coreProperties>
</file>